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66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556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66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556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lick to edit the outline text forma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con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Thir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our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4" marL="20574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if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ix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ven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Introduction to</a:t>
            </a:r>
            <a:br>
              <a:rPr sz="7300"/>
            </a:b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73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" name=""/>
          <p:cNvSpPr/>
          <p:nvPr/>
        </p:nvSpPr>
        <p:spPr>
          <a:xfrm>
            <a:off x="5727240" y="5653080"/>
            <a:ext cx="3163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 Hirabay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&lt;hirarin@gmail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n-memory Struc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XSTR: extensible string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ncatenation, formatted alloc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LIST: array list (dequeue)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andom access by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ush/pop, unshift/shift, insert/remov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MAP: map of hash tabl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inser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TREE: map of ordered tre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comparison func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ther Mechanism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bstract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mon interface of 6 schema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n-memory hash, on-memory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file hash, file B+tree, file array, file tabl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cides the concrete scheme in runtim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remot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etwork interface of the abstract databas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yes, it's Tokyo Tyrant!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iscellaneous utiliti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tring processing, filesystem oper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emory pool, encoding/decod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1125360"/>
            <a:ext cx="4357800" cy="540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util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hdb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CHDB *h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char *key,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hdb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new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open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casket.hdb", HDBOWRITER | H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open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pu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ge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43280" y="3357720"/>
            <a:ext cx="4357800" cy="33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travers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iterini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while((key = tchdbiternext2(hdb)) != NULL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:%s\n", key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Tyran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server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network server of Tokyo Cabine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client/server mode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multi applications can access on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effective binary protoco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compatible protocol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memcached protocol and HTTP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vailable from most popular languages 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concurrency/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resolves "c10k" with epoll/kqueue/eventport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17.2 sec/1M queries (58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avai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ot backup and update lo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synchronous replication between server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database schem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ing the abstract database API of Tokyo Cabine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effective operation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-reply updating, multi-record retrieva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increm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fines arbitrary database operatio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pure script language interfac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Python, PHP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64328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Asynchronous Replica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76240" y="2581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73000" y="25812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2962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33440" y="3724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364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3"/>
            <a:endCxn id="393" idx="0"/>
          </p:cNvCxnSpPr>
          <p:nvPr/>
        </p:nvCxnSpPr>
        <p:spPr>
          <a:xfrm flipV="1" rot="10800000">
            <a:off x="1675800" y="3495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19040" y="4867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616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6010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028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"/>
          <p:cNvCxnSpPr>
            <a:stCxn id="397" idx="3"/>
            <a:endCxn id="399" idx="0"/>
          </p:cNvCxnSpPr>
          <p:nvPr/>
        </p:nvCxnSpPr>
        <p:spPr>
          <a:xfrm flipV="1" rot="10800000">
            <a:off x="121860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39480" y="43340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3640" y="24922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402" idx="2"/>
            <a:endCxn id="389" idx="0"/>
          </p:cNvCxnSpPr>
          <p:nvPr/>
        </p:nvCxnSpPr>
        <p:spPr>
          <a:xfrm flipV="1" rot="16200000">
            <a:off x="2503440" y="1715760"/>
            <a:ext cx="293040" cy="2022840"/>
          </a:xfrm>
          <a:prstGeom prst="curvedConnector5">
            <a:avLst>
              <a:gd name="adj1" fmla="val -78228"/>
              <a:gd name="adj2" fmla="val 21217"/>
              <a:gd name="adj3" fmla="val -782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2338560" y="2131920"/>
            <a:ext cx="10540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1880" y="4867200"/>
            <a:ext cx="1523880" cy="17528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45">
                <a:moveTo>
                  <a:pt x="3600" y="0"/>
                </a:moveTo>
                <a:arcTo wR="3600" hR="3600" stAng="16200000" swAng="-5400000"/>
                <a:lnTo>
                  <a:pt x="0" y="21245"/>
                </a:lnTo>
                <a:arcTo wR="3600" hR="3600" stAng="10800000" swAng="-5400000"/>
                <a:lnTo>
                  <a:pt x="18000" y="24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6900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9080" y="601020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5276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407" idx="3"/>
            <a:endCxn id="409" idx="0"/>
          </p:cNvCxnSpPr>
          <p:nvPr/>
        </p:nvCxnSpPr>
        <p:spPr>
          <a:xfrm flipV="1" rot="10800000">
            <a:off x="297108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93" idx="2"/>
            <a:endCxn id="397" idx="1"/>
          </p:cNvCxnSpPr>
          <p:nvPr/>
        </p:nvCxnSpPr>
        <p:spPr>
          <a:xfrm rot="5400000">
            <a:off x="913680" y="4486320"/>
            <a:ext cx="1067760" cy="457920"/>
          </a:xfrm>
          <a:prstGeom prst="curvedConnector5">
            <a:avLst>
              <a:gd name="adj1" fmla="val 49983"/>
              <a:gd name="adj2" fmla="val 49960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3" idx="2"/>
            <a:endCxn id="407" idx="1"/>
          </p:cNvCxnSpPr>
          <p:nvPr/>
        </p:nvCxnSpPr>
        <p:spPr>
          <a:xfrm flipH="1" rot="16200000">
            <a:off x="1790640" y="4066920"/>
            <a:ext cx="1067760" cy="129600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2" idx="2"/>
            <a:endCxn id="395" idx="3"/>
          </p:cNvCxnSpPr>
          <p:nvPr/>
        </p:nvCxnSpPr>
        <p:spPr>
          <a:xfrm rot="5400000">
            <a:off x="1366200" y="3449520"/>
            <a:ext cx="2870640" cy="171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2" idx="2"/>
            <a:endCxn id="405" idx="3"/>
          </p:cNvCxnSpPr>
          <p:nvPr/>
        </p:nvCxnSpPr>
        <p:spPr>
          <a:xfrm flipH="1" rot="16200000">
            <a:off x="2242440" y="4290840"/>
            <a:ext cx="2870640" cy="35640"/>
          </a:xfrm>
          <a:prstGeom prst="curvedConnector5">
            <a:avLst>
              <a:gd name="adj1" fmla="val 34729"/>
              <a:gd name="adj2" fmla="val 376530"/>
              <a:gd name="adj3" fmla="val 347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2552760" y="3571920"/>
            <a:ext cx="169848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load bal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70360" y="3695760"/>
            <a:ext cx="1524240" cy="17524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4">
                <a:moveTo>
                  <a:pt x="3600" y="0"/>
                </a:moveTo>
                <a:arcTo wR="3600" hR="3600" stAng="16200000" swAng="-5400000"/>
                <a:lnTo>
                  <a:pt x="0" y="21234"/>
                </a:lnTo>
                <a:arcTo wR="3600" hR="3600" stAng="10800000" swAng="-5400000"/>
                <a:lnTo>
                  <a:pt x="18000" y="2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67480" y="369576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13440" y="407664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27560" y="483876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51600" y="476244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18" idx="3"/>
            <a:endCxn id="420" idx="0"/>
          </p:cNvCxnSpPr>
          <p:nvPr/>
        </p:nvCxnSpPr>
        <p:spPr>
          <a:xfrm flipV="1" rot="10800000">
            <a:off x="5569920" y="460980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066080" y="3675240"/>
            <a:ext cx="1523880" cy="1752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62480" y="3675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8800" y="405612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23280" y="481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446960" y="474192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4" idx="3"/>
            <a:endCxn id="426" idx="0"/>
          </p:cNvCxnSpPr>
          <p:nvPr/>
        </p:nvCxnSpPr>
        <p:spPr>
          <a:xfrm flipV="1" rot="10800000">
            <a:off x="7865280" y="458928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4" idx="2"/>
          </p:cNvCxnSpPr>
          <p:nvPr/>
        </p:nvCxnSpPr>
        <p:spPr>
          <a:xfrm flipV="1">
            <a:off x="5989680" y="4322520"/>
            <a:ext cx="1419840" cy="707040"/>
          </a:xfrm>
          <a:prstGeom prst="curvedConnector5">
            <a:avLst>
              <a:gd name="adj1" fmla="val 49987"/>
              <a:gd name="adj2" fmla="val 49974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6081480" y="50846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75280" y="27813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30" idx="2"/>
            <a:endCxn id="416" idx="0"/>
          </p:cNvCxnSpPr>
          <p:nvPr/>
        </p:nvCxnSpPr>
        <p:spPr>
          <a:xfrm flipV="1" rot="10800000">
            <a:off x="5531760" y="316188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770360" y="32385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26" idx="1"/>
            <a:endCxn id="418" idx="4"/>
          </p:cNvCxnSpPr>
          <p:nvPr/>
        </p:nvCxnSpPr>
        <p:spPr>
          <a:xfrm rot="10800000">
            <a:off x="6027120" y="4343400"/>
            <a:ext cx="1419840" cy="66564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0" idx="2"/>
            <a:endCxn id="422" idx="0"/>
          </p:cNvCxnSpPr>
          <p:nvPr/>
        </p:nvCxnSpPr>
        <p:spPr>
          <a:xfrm flipH="1" rot="16200000">
            <a:off x="6423480" y="2270520"/>
            <a:ext cx="513720" cy="2296080"/>
          </a:xfrm>
          <a:prstGeom prst="curvedConnector5">
            <a:avLst>
              <a:gd name="adj1" fmla="val 49789"/>
              <a:gd name="adj2" fmla="val 49992"/>
              <a:gd name="adj3" fmla="val 4978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6297120" y="3068640"/>
            <a:ext cx="1983600" cy="2764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if the master is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9800" y="134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nd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ad bala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61440" y="134136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ail 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4360" y="1341360"/>
            <a:ext cx="7920000" cy="51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hread Pool Model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154152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30200" y="1628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poll/k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2273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57560" y="23796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57560" y="25322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57560" y="2684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57560" y="28368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57560" y="29894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57560" y="31417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57560" y="32940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05280" y="1922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62280" y="230364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a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62280" y="29894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61080" y="15573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90680" y="23036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3" idx="2"/>
            <a:endCxn id="451" idx="3"/>
          </p:cNvCxnSpPr>
          <p:nvPr/>
        </p:nvCxnSpPr>
        <p:spPr>
          <a:xfrm rot="5400000">
            <a:off x="4352400" y="1490400"/>
            <a:ext cx="594360" cy="133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6" idx="1"/>
            <a:endCxn id="452" idx="0"/>
          </p:cNvCxnSpPr>
          <p:nvPr/>
        </p:nvCxnSpPr>
        <p:spPr>
          <a:xfrm flipV="1" rot="10800000">
            <a:off x="3218760" y="2913120"/>
            <a:ext cx="83880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1"/>
            <a:endCxn id="454" idx="2"/>
          </p:cNvCxnSpPr>
          <p:nvPr/>
        </p:nvCxnSpPr>
        <p:spPr>
          <a:xfrm rot="10800000">
            <a:off x="1847160" y="2607480"/>
            <a:ext cx="91512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4" idx="3"/>
            <a:endCxn id="451" idx="1"/>
          </p:cNvCxnSpPr>
          <p:nvPr/>
        </p:nvCxnSpPr>
        <p:spPr>
          <a:xfrm>
            <a:off x="2305080" y="245556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896000" y="33703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02560" y="34290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10400" y="40561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10400" y="42084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10400" y="43610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10400" y="45133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10400" y="46656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10400" y="48182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10400" y="49705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10400" y="51228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57760" y="3751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43360" y="3979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43360" y="48942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>
            <a:stCxn id="465" idx="1"/>
            <a:endCxn id="471" idx="0"/>
          </p:cNvCxnSpPr>
          <p:nvPr/>
        </p:nvCxnSpPr>
        <p:spPr>
          <a:xfrm flipV="1" rot="10800000">
            <a:off x="5199840" y="4740840"/>
            <a:ext cx="61056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1"/>
          </p:cNvCxnSpPr>
          <p:nvPr/>
        </p:nvCxnSpPr>
        <p:spPr>
          <a:xfrm flipH="1" rot="16200000">
            <a:off x="5352840" y="4131720"/>
            <a:ext cx="3056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6659640" y="51577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59640" y="56149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59640" y="60721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1" idx="2"/>
            <a:endCxn id="474" idx="1"/>
          </p:cNvCxnSpPr>
          <p:nvPr/>
        </p:nvCxnSpPr>
        <p:spPr>
          <a:xfrm flipH="1" rot="16200000">
            <a:off x="5854680" y="4543920"/>
            <a:ext cx="1497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  <a:endCxn id="475" idx="1"/>
          </p:cNvCxnSpPr>
          <p:nvPr/>
        </p:nvCxnSpPr>
        <p:spPr>
          <a:xfrm flipH="1" rot="16200000">
            <a:off x="5626080" y="4772520"/>
            <a:ext cx="6069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1" idx="2"/>
            <a:endCxn id="476" idx="1"/>
          </p:cNvCxnSpPr>
          <p:nvPr/>
        </p:nvCxnSpPr>
        <p:spPr>
          <a:xfrm flipH="1" rot="16200000">
            <a:off x="5397480" y="5001120"/>
            <a:ext cx="10641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4" idx="3"/>
            <a:endCxn id="451" idx="3"/>
          </p:cNvCxnSpPr>
          <p:nvPr/>
        </p:nvCxnSpPr>
        <p:spPr>
          <a:xfrm flipH="1" flipV="1">
            <a:off x="3981240" y="2455560"/>
            <a:ext cx="4202640" cy="2892960"/>
          </a:xfrm>
          <a:prstGeom prst="curvedConnector5">
            <a:avLst>
              <a:gd name="adj1" fmla="val -5431"/>
              <a:gd name="adj2" fmla="val 49993"/>
              <a:gd name="adj3" fmla="val -54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5" idx="3"/>
            <a:endCxn id="451" idx="3"/>
          </p:cNvCxnSpPr>
          <p:nvPr/>
        </p:nvCxnSpPr>
        <p:spPr>
          <a:xfrm flipH="1" flipV="1">
            <a:off x="3981240" y="2455560"/>
            <a:ext cx="4202640" cy="3350160"/>
          </a:xfrm>
          <a:prstGeom prst="curvedConnector5">
            <a:avLst>
              <a:gd name="adj1" fmla="val -5431"/>
              <a:gd name="adj2" fmla="val 49994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6" idx="3"/>
            <a:endCxn id="451" idx="3"/>
          </p:cNvCxnSpPr>
          <p:nvPr/>
        </p:nvCxnSpPr>
        <p:spPr>
          <a:xfrm flipH="1" flipV="1">
            <a:off x="3981240" y="2455560"/>
            <a:ext cx="4202640" cy="3807360"/>
          </a:xfrm>
          <a:prstGeom prst="curvedConnector5">
            <a:avLst>
              <a:gd name="adj1" fmla="val -5431"/>
              <a:gd name="adj2" fmla="val 49995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6294240" y="2637000"/>
            <a:ext cx="21085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back if keep-a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84760" y="6070680"/>
            <a:ext cx="119556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each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560" y="1773360"/>
            <a:ext cx="2658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 the client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event is about the 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62280" y="35226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52" idx="2"/>
            <a:endCxn id="486" idx="0"/>
          </p:cNvCxnSpPr>
          <p:nvPr/>
        </p:nvCxnSpPr>
        <p:spPr>
          <a:xfrm flipH="1" rot="16200000">
            <a:off x="3180240" y="3331800"/>
            <a:ext cx="229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6" idx="2"/>
            <a:endCxn id="470" idx="1"/>
          </p:cNvCxnSpPr>
          <p:nvPr/>
        </p:nvCxnSpPr>
        <p:spPr>
          <a:xfrm flipH="1" rot="16200000">
            <a:off x="3904920" y="3293640"/>
            <a:ext cx="30564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51" idx="2"/>
            <a:endCxn id="445" idx="1"/>
          </p:cNvCxnSpPr>
          <p:nvPr/>
        </p:nvCxnSpPr>
        <p:spPr>
          <a:xfrm flipH="1" rot="16200000">
            <a:off x="3637440" y="2341440"/>
            <a:ext cx="1533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49" idx="2"/>
            <a:endCxn id="486" idx="3"/>
          </p:cNvCxnSpPr>
          <p:nvPr/>
        </p:nvCxnSpPr>
        <p:spPr>
          <a:xfrm rot="5400000">
            <a:off x="3999960" y="342756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1464120" y="4149720"/>
            <a:ext cx="32317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ve the readable client 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rom the epoll queue to the task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00160" y="1916280"/>
            <a:ext cx="3882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rst of all, the listening socket is enqueued i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epoll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efines DB operations as Lua function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clients send the function name and record data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he server returns the return value of the func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options about atomicit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no locking / record locking / global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3645000"/>
            <a:ext cx="8280360" cy="30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Lua Exten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6" name=""/>
          <p:cNvSpPr/>
          <p:nvPr/>
        </p:nvSpPr>
        <p:spPr>
          <a:xfrm>
            <a:off x="4429080" y="3789360"/>
            <a:ext cx="41911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2880" y="3789360"/>
            <a:ext cx="23623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11160" y="50594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35200" y="490680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8880" y="47545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5080" y="4221000"/>
            <a:ext cx="3733920" cy="121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97360" y="48308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0200" y="483084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u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99160" y="42973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05440" y="5661000"/>
            <a:ext cx="1181160" cy="8413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43680" y="5734080"/>
            <a:ext cx="1295280" cy="7682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505" idx="1"/>
            <a:endCxn id="502" idx="2"/>
          </p:cNvCxnSpPr>
          <p:nvPr/>
        </p:nvCxnSpPr>
        <p:spPr>
          <a:xfrm flipH="1" flipV="1" rot="5400000">
            <a:off x="5428800" y="5454000"/>
            <a:ext cx="373680" cy="40680"/>
          </a:xfrm>
          <a:prstGeom prst="curvedConnector5">
            <a:avLst>
              <a:gd name="adj1" fmla="val 49758"/>
              <a:gd name="adj2" fmla="val 50000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6" idx="0"/>
            <a:endCxn id="503" idx="2"/>
          </p:cNvCxnSpPr>
          <p:nvPr/>
        </p:nvCxnSpPr>
        <p:spPr>
          <a:xfrm flipV="1" rot="16200000">
            <a:off x="7266240" y="5408640"/>
            <a:ext cx="446760" cy="203760"/>
          </a:xfrm>
          <a:prstGeom prst="curvedConnector5">
            <a:avLst>
              <a:gd name="adj1" fmla="val 49758"/>
              <a:gd name="adj2" fmla="val 49911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509" name=""/>
          <p:cNvSpPr/>
          <p:nvPr/>
        </p:nvSpPr>
        <p:spPr>
          <a:xfrm>
            <a:off x="7021440" y="6021360"/>
            <a:ext cx="116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2560" y="46022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1400" y="4678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27640" y="386064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80" y="38862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77920" y="3809880"/>
            <a:ext cx="1411920" cy="100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68560" y="5059440"/>
            <a:ext cx="1371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/>
          <p:nvPr/>
        </p:nvCxnSpPr>
        <p:spPr>
          <a:xfrm flipV="1">
            <a:off x="2425680" y="4742640"/>
            <a:ext cx="2210400" cy="191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17" name=""/>
          <p:cNvCxnSpPr/>
          <p:nvPr/>
        </p:nvCxnSpPr>
        <p:spPr>
          <a:xfrm flipV="1" rot="10800000">
            <a:off x="2434680" y="4906440"/>
            <a:ext cx="2210400" cy="191520"/>
          </a:xfrm>
          <a:prstGeom prst="curvedConnector5">
            <a:avLst>
              <a:gd name="adj1" fmla="val 49991"/>
              <a:gd name="adj2" fmla="val 49905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Timestamp DB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record size is 20 byte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ore than 10,000 updates per sec.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keeps 10,000 connection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ual master replica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server is only o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emcached compatible protoc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uses existing Perl client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1" name=""/>
          <p:cNvSpPr/>
          <p:nvPr/>
        </p:nvSpPr>
        <p:spPr>
          <a:xfrm>
            <a:off x="5019840" y="1844640"/>
            <a:ext cx="2057400" cy="4749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9840"/>
              <a:gd name="textAreaBottom" fmla="*/ 4649400 h 4749840"/>
            </a:gdLst>
            <a:ahLst/>
            <a:rect l="textAreaLeft" t="textAreaTop" r="textAreaRight" b="textAreaBottom"/>
            <a:pathLst>
              <a:path w="21600" h="49862">
                <a:moveTo>
                  <a:pt x="3600" y="0"/>
                </a:moveTo>
                <a:arcTo wR="3600" hR="3600" stAng="16200000" swAng="-5400000"/>
                <a:lnTo>
                  <a:pt x="0" y="46262"/>
                </a:lnTo>
                <a:arcTo wR="3600" hR="3600" stAng="10800000" swAng="-5400000"/>
                <a:lnTo>
                  <a:pt x="18000" y="49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67200" y="1700280"/>
            <a:ext cx="2057400" cy="4741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1920"/>
              <a:gd name="textAreaBottom" fmla="*/ 4641480 h 4741920"/>
            </a:gdLst>
            <a:ahLst/>
            <a:rect l="textAreaLeft" t="textAreaTop" r="textAreaRight" b="textAreaBottom"/>
            <a:pathLst>
              <a:path w="21600" h="49779">
                <a:moveTo>
                  <a:pt x="3600" y="0"/>
                </a:moveTo>
                <a:arcTo wR="3600" hR="3600" stAng="16200000" swAng="-5400000"/>
                <a:lnTo>
                  <a:pt x="0" y="46179"/>
                </a:lnTo>
                <a:arcTo wR="3600" hR="3600" stAng="10800000" swAng="-5400000"/>
                <a:lnTo>
                  <a:pt x="18000" y="49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14920" y="1555920"/>
            <a:ext cx="2057400" cy="4733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33640"/>
              <a:gd name="textAreaBottom" fmla="*/ 4633200 h 4733640"/>
            </a:gdLst>
            <a:ahLst/>
            <a:rect l="textAreaLeft" t="textAreaTop" r="textAreaRight" b="textAreaBottom"/>
            <a:pathLst>
              <a:path w="21600" h="49692">
                <a:moveTo>
                  <a:pt x="3600" y="0"/>
                </a:moveTo>
                <a:arcTo wR="3600" hR="3600" stAng="16200000" swAng="-5400000"/>
                <a:lnTo>
                  <a:pt x="0" y="46092"/>
                </a:lnTo>
                <a:arcTo wR="3600" hR="3600" stAng="10800000" swAng="-5400000"/>
                <a:lnTo>
                  <a:pt x="18000" y="4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00720" y="41562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24400" y="40798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248440" y="400356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72120" y="39276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95800" y="34704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earch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19840" y="29368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view_diary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43520" y="24796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how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67200" y="20224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ome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19840" y="54514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bookmark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67200" y="49942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88000" y="16286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od_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80360" y="2205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49840" y="2276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32640" y="2670120"/>
            <a:ext cx="1000080" cy="614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1" idx="3"/>
            <a:endCxn id="535" idx="1"/>
          </p:cNvCxnSpPr>
          <p:nvPr/>
        </p:nvCxnSpPr>
        <p:spPr>
          <a:xfrm>
            <a:off x="6086520" y="2364840"/>
            <a:ext cx="1294560" cy="45324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0" idx="3"/>
            <a:endCxn id="535" idx="1"/>
          </p:cNvCxnSpPr>
          <p:nvPr/>
        </p:nvCxnSpPr>
        <p:spPr>
          <a:xfrm flipV="1">
            <a:off x="6162840" y="2817000"/>
            <a:ext cx="1218240" cy="540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9" idx="3"/>
            <a:endCxn id="535" idx="1"/>
          </p:cNvCxnSpPr>
          <p:nvPr/>
        </p:nvCxnSpPr>
        <p:spPr>
          <a:xfrm flipV="1">
            <a:off x="6238440" y="2817000"/>
            <a:ext cx="1142280" cy="4626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5" idx="1"/>
          </p:cNvCxnSpPr>
          <p:nvPr/>
        </p:nvCxnSpPr>
        <p:spPr>
          <a:xfrm flipV="1">
            <a:off x="6314760" y="2817000"/>
            <a:ext cx="1065960" cy="99612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7" idx="3"/>
            <a:endCxn id="535" idx="1"/>
          </p:cNvCxnSpPr>
          <p:nvPr/>
        </p:nvCxnSpPr>
        <p:spPr>
          <a:xfrm flipV="1">
            <a:off x="6391080" y="2817000"/>
            <a:ext cx="989280" cy="1453320"/>
          </a:xfrm>
          <a:prstGeom prst="curvedConnector5">
            <a:avLst>
              <a:gd name="adj1" fmla="val 49908"/>
              <a:gd name="adj2" fmla="val 50000"/>
              <a:gd name="adj3" fmla="val 499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6374880" y="2131920"/>
            <a:ext cx="87732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61080" y="5084640"/>
            <a:ext cx="67608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26" idx="3"/>
            <a:endCxn id="535" idx="1"/>
          </p:cNvCxnSpPr>
          <p:nvPr/>
        </p:nvCxnSpPr>
        <p:spPr>
          <a:xfrm flipV="1">
            <a:off x="6467400" y="2817000"/>
            <a:ext cx="913680" cy="15296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25" idx="3"/>
            <a:endCxn id="535" idx="1"/>
          </p:cNvCxnSpPr>
          <p:nvPr/>
        </p:nvCxnSpPr>
        <p:spPr>
          <a:xfrm flipV="1">
            <a:off x="6543720" y="2817360"/>
            <a:ext cx="837360" cy="1605600"/>
          </a:xfrm>
          <a:prstGeom prst="curvedConnector5">
            <a:avLst>
              <a:gd name="adj1" fmla="val 49892"/>
              <a:gd name="adj2" fmla="val 49988"/>
              <a:gd name="adj3" fmla="val 498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24" idx="3"/>
            <a:endCxn id="535" idx="1"/>
          </p:cNvCxnSpPr>
          <p:nvPr/>
        </p:nvCxnSpPr>
        <p:spPr>
          <a:xfrm flipV="1">
            <a:off x="6620040" y="2817360"/>
            <a:ext cx="761040" cy="1681920"/>
          </a:xfrm>
          <a:prstGeom prst="curvedConnector5">
            <a:avLst>
              <a:gd name="adj1" fmla="val 49881"/>
              <a:gd name="adj2" fmla="val 49989"/>
              <a:gd name="adj3" fmla="val 498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33" idx="3"/>
            <a:endCxn id="535" idx="1"/>
          </p:cNvCxnSpPr>
          <p:nvPr/>
        </p:nvCxnSpPr>
        <p:spPr>
          <a:xfrm flipV="1">
            <a:off x="6086520" y="2817360"/>
            <a:ext cx="1294560" cy="2520000"/>
          </a:xfrm>
          <a:prstGeom prst="curvedConnector5">
            <a:avLst>
              <a:gd name="adj1" fmla="val 49930"/>
              <a:gd name="adj2" fmla="val 49992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2" idx="3"/>
            <a:endCxn id="535" idx="1"/>
          </p:cNvCxnSpPr>
          <p:nvPr/>
        </p:nvCxnSpPr>
        <p:spPr>
          <a:xfrm flipV="1">
            <a:off x="6238440" y="2817360"/>
            <a:ext cx="1142280" cy="2977200"/>
          </a:xfrm>
          <a:prstGeom prst="curvedConnector5">
            <a:avLst>
              <a:gd name="adj1" fmla="val 49905"/>
              <a:gd name="adj2" fmla="val 49993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24720" y="4221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94920" y="4292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standb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77000" y="4686480"/>
            <a:ext cx="998640" cy="614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5" idx="2"/>
            <a:endCxn id="550" idx="0"/>
          </p:cNvCxnSpPr>
          <p:nvPr/>
        </p:nvCxnSpPr>
        <p:spPr>
          <a:xfrm flipH="1" rot="16200000">
            <a:off x="7702920" y="3752640"/>
            <a:ext cx="792720" cy="144720"/>
          </a:xfrm>
          <a:prstGeom prst="curvedConnector5">
            <a:avLst>
              <a:gd name="adj1" fmla="val 49886"/>
              <a:gd name="adj2" fmla="val 49875"/>
              <a:gd name="adj3" fmla="val 498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7527960" y="3645000"/>
            <a:ext cx="121860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Cabinet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database librar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Tyrant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Dystopia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full-text search engi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Promenad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content management syste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open sourc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released under LGPL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powerful, portable, practica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written in the standard C, optimized to POSIX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1" name=""/>
          <p:cNvSpPr/>
          <p:nvPr/>
        </p:nvSpPr>
        <p:spPr>
          <a:xfrm>
            <a:off x="4500720" y="3355920"/>
            <a:ext cx="417168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924280"/>
            <a:ext cx="417168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2492280"/>
            <a:ext cx="108108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2492280"/>
            <a:ext cx="1368360" cy="505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5440" y="2492280"/>
            <a:ext cx="1222560" cy="505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st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060640"/>
            <a:ext cx="352872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2060640"/>
            <a:ext cx="720720" cy="936720"/>
          </a:xfrm>
          <a:prstGeom prst="cube">
            <a:avLst>
              <a:gd name="adj" fmla="val 178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59280" y="177336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88000" y="17002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ase: Cache for Big Storag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works as prox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mediates insert/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write through, read throug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uses LuaSocket to access the stor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roper DB schem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MDB: for generic cach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NDB: for biased acces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HDB: for large records such as im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FDB: for small records such as timestamp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560" name=""/>
          <p:cNvSpPr/>
          <p:nvPr/>
        </p:nvSpPr>
        <p:spPr>
          <a:xfrm>
            <a:off x="7378560" y="2368440"/>
            <a:ext cx="1440000" cy="3889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889440"/>
              <a:gd name="textAreaBottom" fmla="*/ 3819240 h 3889440"/>
            </a:gdLst>
            <a:ahLst/>
            <a:rect l="textAreaLeft" t="textAreaTop" r="textAreaRight" b="textAreaBottom"/>
            <a:pathLst>
              <a:path w="21600" h="58332">
                <a:moveTo>
                  <a:pt x="3600" y="0"/>
                </a:moveTo>
                <a:arcTo wR="3600" hR="3600" stAng="16200000" swAng="-5400000"/>
                <a:lnTo>
                  <a:pt x="0" y="54732"/>
                </a:lnTo>
                <a:arcTo wR="3600" hR="3600" stAng="10800000" swAng="-5400000"/>
                <a:lnTo>
                  <a:pt x="18000" y="58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4560" y="4529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4560" y="5321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4560" y="2944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94560" y="3736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0560" y="24922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ySQL/h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80000" y="2347920"/>
            <a:ext cx="1440000" cy="396072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960720"/>
              <a:gd name="textAreaBottom" fmla="*/ 3890520 h 3960720"/>
            </a:gdLst>
            <a:ahLst/>
            <a:rect l="textAreaLeft" t="textAreaTop" r="textAreaRight" b="textAreaBottom"/>
            <a:pathLst>
              <a:path w="21600" h="59401">
                <a:moveTo>
                  <a:pt x="3600" y="0"/>
                </a:moveTo>
                <a:arcTo wR="3600" hR="3600" stAng="16200000" swAng="-5400000"/>
                <a:lnTo>
                  <a:pt x="0" y="55801"/>
                </a:lnTo>
                <a:arcTo wR="3600" hR="3600" stAng="10800000" swAng="-5400000"/>
                <a:lnTo>
                  <a:pt x="18000" y="59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5230800"/>
            <a:ext cx="93528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50200" y="247176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22920" y="2924280"/>
            <a:ext cx="121428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335772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24360" y="4078440"/>
            <a:ext cx="121464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67280" y="451008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6360" y="1628640"/>
            <a:ext cx="86544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43280" y="155736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804000" y="3455640"/>
            <a:ext cx="573840" cy="524160"/>
          </a:xfrm>
          <a:prstGeom prst="curvedConnector5">
            <a:avLst>
              <a:gd name="adj1" fmla="val 49843"/>
              <a:gd name="adj2" fmla="val 49965"/>
              <a:gd name="adj3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 flipH="1">
            <a:off x="6803280" y="3716280"/>
            <a:ext cx="3960" cy="2000880"/>
          </a:xfrm>
          <a:prstGeom prst="curvedConnector5">
            <a:avLst>
              <a:gd name="adj1" fmla="val -15450000"/>
              <a:gd name="adj2" fmla="val 49991"/>
              <a:gd name="adj3" fmla="val -15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flipV="1" rot="10800000">
            <a:off x="6803280" y="4076280"/>
            <a:ext cx="573840" cy="629280"/>
          </a:xfrm>
          <a:prstGeom prst="curvedConnector5">
            <a:avLst>
              <a:gd name="adj1" fmla="val 50094"/>
              <a:gd name="adj2" fmla="val 49971"/>
              <a:gd name="adj3" fmla="val 5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 flipH="1">
            <a:off x="6803280" y="4797000"/>
            <a:ext cx="3960" cy="848520"/>
          </a:xfrm>
          <a:prstGeom prst="curvedConnector5">
            <a:avLst>
              <a:gd name="adj1" fmla="val -9300000"/>
              <a:gd name="adj2" fmla="val 50000"/>
              <a:gd name="adj3" fmla="val -9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9" name=""/>
          <p:cNvCxnSpPr>
            <a:endCxn id="569" idx="1"/>
          </p:cNvCxnSpPr>
          <p:nvPr/>
        </p:nvCxnSpPr>
        <p:spPr>
          <a:xfrm flipH="1" rot="16200000">
            <a:off x="4758840" y="2429280"/>
            <a:ext cx="140436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1" idx="1"/>
          </p:cNvCxnSpPr>
          <p:nvPr/>
        </p:nvCxnSpPr>
        <p:spPr>
          <a:xfrm rot="10800000">
            <a:off x="5017320" y="1985400"/>
            <a:ext cx="707040" cy="256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6747120" y="1628640"/>
            <a:ext cx="2467080" cy="4590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nserts to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97320" y="5805360"/>
            <a:ext cx="2779560" cy="8240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trieves 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und,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rieves from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"/>
          <p:cNvCxnSpPr>
            <a:stCxn id="581" idx="2"/>
            <a:endCxn id="569" idx="0"/>
          </p:cNvCxnSpPr>
          <p:nvPr/>
        </p:nvCxnSpPr>
        <p:spPr>
          <a:xfrm flipH="1">
            <a:off x="6330600" y="2085480"/>
            <a:ext cx="1650240" cy="839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4" name=""/>
          <p:cNvCxnSpPr>
            <a:stCxn id="571" idx="2"/>
            <a:endCxn id="582" idx="0"/>
          </p:cNvCxnSpPr>
          <p:nvPr/>
        </p:nvCxnSpPr>
        <p:spPr>
          <a:xfrm flipH="1">
            <a:off x="5687640" y="5014800"/>
            <a:ext cx="6451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86" name=""/>
          <p:cNvSpPr/>
          <p:nvPr/>
        </p:nvSpPr>
        <p:spPr>
          <a:xfrm>
            <a:off x="179280" y="1268280"/>
            <a:ext cx="4357800" cy="518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tcrdb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RDB *r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r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onnect to the server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localhost", 1978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ge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ge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43280" y="4724280"/>
            <a:ext cx="4357800" cy="187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connection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Dystopia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full-text search engine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full-text search engin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databases of Tokyo Cabinet as an inverted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mbines two tokenizer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haracter N-gram (bi-gram) metho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erfect recall ratio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imple word by outer language processo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high accuracy and high performanc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ndles more than 10 million document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earches in millisecon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optimized to professional us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layered architecture of API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embedded scoring syste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to combine outer scoring system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text filter, no crawler, no language processo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onvenient utilitie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multilingualism with Unicod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set operation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phrase matching, prefix matching, suffix matching, and token match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command line utilitie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Inverted Index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stands on key/valu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key = toke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N-gram or simple word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value = occurrence data (posting list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list of pairs of document number and offset in the document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uses B+ tre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duces write operations into the disk devic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enables common prefix search for toke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elta encoding and deflate compress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4" name=""/>
          <p:cNvSpPr/>
          <p:nvPr/>
        </p:nvSpPr>
        <p:spPr>
          <a:xfrm>
            <a:off x="1258920" y="5040360"/>
            <a:ext cx="6408720" cy="16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25160" y="508464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:21   text: "abracadabr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93440" y="55357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4360" y="5535720"/>
            <a:ext cx="4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26520" y="55371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0,21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3392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6736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9900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1984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4200" y="512604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43880" y="5124600"/>
            <a:ext cx="1951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21120" y="5178600"/>
            <a:ext cx="38592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75440" y="5175360"/>
            <a:ext cx="38556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03840" y="516888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22880" y="515772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43720" y="5157720"/>
            <a:ext cx="38556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79240" y="5518080"/>
            <a:ext cx="16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, 21: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2, 21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haracter N-gram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q-gram index" (only index), and "indexed database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embedded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word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word index" (only index), and "tagged index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outer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2" name=""/>
          <p:cNvSpPr/>
          <p:nvPr/>
        </p:nvSpPr>
        <p:spPr>
          <a:xfrm>
            <a:off x="4284720" y="4149720"/>
            <a:ext cx="475308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Layered Architectur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4" name=""/>
          <p:cNvSpPr/>
          <p:nvPr/>
        </p:nvSpPr>
        <p:spPr>
          <a:xfrm>
            <a:off x="4502160" y="6202440"/>
            <a:ext cx="441972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02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gram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788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02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88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4988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1184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44840" y="475452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 N-gram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700040" y="47545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gging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02160" y="4221000"/>
            <a:ext cx="4419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friend search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each record size is 1K byt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name and self introduction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more than 100 qp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attribute narrow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gender, address, birthday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ultiple sort ord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distributed process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ore than 10 serv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indexer, searchers, merg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ranking by social graph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the merger scores the result by following the friend link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6" name=""/>
          <p:cNvSpPr/>
          <p:nvPr/>
        </p:nvSpPr>
        <p:spPr>
          <a:xfrm>
            <a:off x="4643280" y="1341360"/>
            <a:ext cx="432144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1344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7708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45080" y="6019920"/>
            <a:ext cx="79236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88000" y="4437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32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90880" y="4365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164360" y="350208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21440" y="3429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77080" y="335772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732720" y="3284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69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735240" y="321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88000" y="2276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932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24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90160" y="220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29" idx="1"/>
            <a:endCxn id="631" idx="3"/>
          </p:cNvCxnSpPr>
          <p:nvPr/>
        </p:nvCxnSpPr>
        <p:spPr>
          <a:xfrm flipV="1" rot="16200000">
            <a:off x="5743080" y="4920480"/>
            <a:ext cx="648360" cy="15501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29" idx="1"/>
            <a:endCxn id="632" idx="3"/>
          </p:cNvCxnSpPr>
          <p:nvPr/>
        </p:nvCxnSpPr>
        <p:spPr>
          <a:xfrm flipV="1" rot="16200000">
            <a:off x="6139080" y="5316480"/>
            <a:ext cx="648360" cy="7581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1" idx="4"/>
            <a:endCxn id="638" idx="2"/>
          </p:cNvCxnSpPr>
          <p:nvPr/>
        </p:nvCxnSpPr>
        <p:spPr>
          <a:xfrm flipV="1">
            <a:off x="5651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2" idx="4"/>
            <a:endCxn id="639" idx="2"/>
          </p:cNvCxnSpPr>
          <p:nvPr/>
        </p:nvCxnSpPr>
        <p:spPr>
          <a:xfrm flipV="1">
            <a:off x="6443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2" idx="1"/>
            <a:endCxn id="643" idx="3"/>
          </p:cNvCxnSpPr>
          <p:nvPr/>
        </p:nvCxnSpPr>
        <p:spPr>
          <a:xfrm flipV="1">
            <a:off x="6084360" y="3210840"/>
            <a:ext cx="1080" cy="151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6297120" y="5423040"/>
            <a:ext cx="15598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p pro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81160" y="4653000"/>
            <a:ext cx="22777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index and th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0600" y="3573360"/>
            <a:ext cx="18709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social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32720" y="1628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"/>
          <p:cNvCxnSpPr>
            <a:stCxn id="653" idx="1"/>
            <a:endCxn id="641" idx="0"/>
          </p:cNvCxnSpPr>
          <p:nvPr/>
        </p:nvCxnSpPr>
        <p:spPr>
          <a:xfrm flipV="1" rot="10800000">
            <a:off x="5652360" y="1844280"/>
            <a:ext cx="1080360" cy="432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5" name=""/>
          <p:cNvCxnSpPr>
            <a:stCxn id="641" idx="3"/>
            <a:endCxn id="637" idx="0"/>
          </p:cNvCxnSpPr>
          <p:nvPr/>
        </p:nvCxnSpPr>
        <p:spPr>
          <a:xfrm>
            <a:off x="6516360" y="2781360"/>
            <a:ext cx="108180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7020000" y="261468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08720" y="175104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59" name=""/>
          <p:cNvSpPr/>
          <p:nvPr/>
        </p:nvSpPr>
        <p:spPr>
          <a:xfrm>
            <a:off x="179280" y="1413000"/>
            <a:ext cx="4357800" cy="388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dystopia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IDB *i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, rnum, 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uint64_t *resul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tex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"casket", IDBOWRITER | I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1, "George Washington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2, "John Adams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3, "Thomas Jefferson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3280" y="2637000"/>
            <a:ext cx="4357800" cy="40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earch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sul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search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"john || thomas", &amp;rnum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resul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or(i = 0; i &lt; rnum; i++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ex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ge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result[i]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tex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d\t%s\n", (int)result[i], 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resul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search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menade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content management system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Cabine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library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ntent management system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Web contents easily with a brows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vailable as BBS, Blog, and Wiki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imple and logical interfac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ims at conciseness like LaT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ptimized for text browsers such as w3m and Lyn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plying with XHTML 1.0 and considering WCAG 1.0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throughpu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mplemented in pure C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Tokyo Cabinet and supports FastCGI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0.836ms/view (more than 1,000 qp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sufficient functionality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Wiki formatt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file uploader and manage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user authentication by the login for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guest comment authorization by a riddl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the sidebar navigat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full-text/attribute search, calendar view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flexible customizability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thorough separation of logic and presentat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template file to generate the output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rver side scripting by the Lua extens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post processing by outer command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66" name=""/>
          <p:cNvSpPr/>
          <p:nvPr/>
        </p:nvSpPr>
        <p:spPr>
          <a:xfrm>
            <a:off x="179280" y="1413000"/>
            <a:ext cx="4357800" cy="496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! Introduction to Tokyo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c 2009-11-05T18:58:39+0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m 2009-11-05T18:58:39+0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o mik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t database,programming,tokyo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This article describes what is [[Tokyo Cabinet|http://1978th.net/tokyocabinet/]] and how to us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@ upfile:1257415094-logo-ja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*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modern implementation of D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key/valu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e.g.) DBM, NDBM, GDBM, TDB, CDB, Berkeley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imple library = process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uccessor of QD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C99 and POSIX compatible, using Pthread, mmap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Win32 porting is work-in-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high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insert: 0.4 sec/1M records (2,500,000 q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earch: 0.33 sec/1M records (3,000,000 q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267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471760" y="5445000"/>
            <a:ext cx="63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innovating more and yet mo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http://1978th.net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modern implementation of DBM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key/valu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.g.) DBM, NDBM, GDBM, TDB, CDB, Berkeley DB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library = process embedd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ccessor of QDB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99 and POSIX compatible, using Pthread, mmap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in32 porting is work-in-progres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insert: 0.4 sec/1M records (2,5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arch: 0.33 sec/1M records (3,0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concurrenc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ulti-thread saf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ead/write locking by recor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sh and B+tree structure = O(1) and O(log N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actual limit size of a database file (to 8 exabyte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ransact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rite ahead logging and shadow paging 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CID propertie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API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n-memory list/hash/tre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file hash/B+tree/array/tabl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cript language binding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Lua, Python, PHP, Haskell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59280" y="1268280"/>
            <a:ext cx="3888000" cy="525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HDB: Hash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tic has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eparate chain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inary search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alances by the second has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free block po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est fit alloc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ynamic defragment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bines mmap and pwrite/pread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aves calling system call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pres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eflate(gzip)/bzip2/custo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692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05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49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9928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4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49880" y="2257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2257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9880" y="2638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2638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49880" y="30193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193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49880" y="340848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40848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9880" y="378936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78936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49880" y="41702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41702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9880" y="45608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45608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49880" y="49417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49417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49880" y="53229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53229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5713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713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9880" y="6094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6094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22160" y="13208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1" idx="2"/>
            <a:endCxn id="78" idx="1"/>
          </p:cNvCxnSpPr>
          <p:nvPr/>
        </p:nvCxnSpPr>
        <p:spPr>
          <a:xfrm rot="5400000">
            <a:off x="5446800" y="1843560"/>
            <a:ext cx="369000" cy="764280"/>
          </a:xfrm>
          <a:prstGeom prst="curvedConnector5">
            <a:avLst>
              <a:gd name="adj1" fmla="val 28808"/>
              <a:gd name="adj2" fmla="val 64938"/>
              <a:gd name="adj3" fmla="val 288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63" idx="2"/>
            <a:endCxn id="82" idx="1"/>
          </p:cNvCxnSpPr>
          <p:nvPr/>
        </p:nvCxnSpPr>
        <p:spPr>
          <a:xfrm rot="5400000">
            <a:off x="5209200" y="2081160"/>
            <a:ext cx="1131120" cy="1051560"/>
          </a:xfrm>
          <a:prstGeom prst="curvedConnector5">
            <a:avLst>
              <a:gd name="adj1" fmla="val 43107"/>
              <a:gd name="adj2" fmla="val 60856"/>
              <a:gd name="adj3" fmla="val 431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67" idx="2"/>
            <a:endCxn id="88" idx="1"/>
          </p:cNvCxnSpPr>
          <p:nvPr/>
        </p:nvCxnSpPr>
        <p:spPr>
          <a:xfrm rot="5400000">
            <a:off x="4922280" y="2368440"/>
            <a:ext cx="2282040" cy="1627920"/>
          </a:xfrm>
          <a:prstGeom prst="curvedConnector5">
            <a:avLst>
              <a:gd name="adj1" fmla="val 46623"/>
              <a:gd name="adj2" fmla="val 57022"/>
              <a:gd name="adj3" fmla="val 466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65" idx="2"/>
            <a:endCxn id="94" idx="1"/>
          </p:cNvCxnSpPr>
          <p:nvPr/>
        </p:nvCxnSpPr>
        <p:spPr>
          <a:xfrm rot="5400000">
            <a:off x="4202280" y="3088440"/>
            <a:ext cx="3434400" cy="1340640"/>
          </a:xfrm>
          <a:prstGeom prst="curvedConnector5">
            <a:avLst>
              <a:gd name="adj1" fmla="val 47751"/>
              <a:gd name="adj2" fmla="val 58528"/>
              <a:gd name="adj3" fmla="val 477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79" idx="3"/>
            <a:endCxn id="80" idx="1"/>
          </p:cNvCxnSpPr>
          <p:nvPr/>
        </p:nvCxnSpPr>
        <p:spPr>
          <a:xfrm flipH="1">
            <a:off x="5249520" y="2409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3" idx="3"/>
            <a:endCxn id="84" idx="1"/>
          </p:cNvCxnSpPr>
          <p:nvPr/>
        </p:nvCxnSpPr>
        <p:spPr>
          <a:xfrm flipH="1">
            <a:off x="5249520" y="3171960"/>
            <a:ext cx="3124800" cy="389520"/>
          </a:xfrm>
          <a:prstGeom prst="curvedConnector5">
            <a:avLst>
              <a:gd name="adj1" fmla="val -7304"/>
              <a:gd name="adj2" fmla="val 24884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83" idx="3"/>
            <a:endCxn id="86" idx="1"/>
          </p:cNvCxnSpPr>
          <p:nvPr/>
        </p:nvCxnSpPr>
        <p:spPr>
          <a:xfrm flipH="1">
            <a:off x="5249520" y="3171960"/>
            <a:ext cx="3124800" cy="770400"/>
          </a:xfrm>
          <a:prstGeom prst="curvedConnector5">
            <a:avLst>
              <a:gd name="adj1" fmla="val -7304"/>
              <a:gd name="adj2" fmla="val 24918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9" idx="3"/>
            <a:endCxn id="90" idx="1"/>
          </p:cNvCxnSpPr>
          <p:nvPr/>
        </p:nvCxnSpPr>
        <p:spPr>
          <a:xfrm flipH="1">
            <a:off x="5249520" y="4322880"/>
            <a:ext cx="3124800" cy="390960"/>
          </a:xfrm>
          <a:prstGeom prst="curvedConnector5">
            <a:avLst>
              <a:gd name="adj1" fmla="val -7304"/>
              <a:gd name="adj2" fmla="val 24976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1" idx="3"/>
            <a:endCxn id="92" idx="1"/>
          </p:cNvCxnSpPr>
          <p:nvPr/>
        </p:nvCxnSpPr>
        <p:spPr>
          <a:xfrm flipH="1">
            <a:off x="5249520" y="4712760"/>
            <a:ext cx="3124800" cy="381960"/>
          </a:xfrm>
          <a:prstGeom prst="curvedConnector5">
            <a:avLst>
              <a:gd name="adj1" fmla="val -7304"/>
              <a:gd name="adj2" fmla="val 25000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3"/>
            <a:endCxn id="96" idx="1"/>
          </p:cNvCxnSpPr>
          <p:nvPr/>
        </p:nvCxnSpPr>
        <p:spPr>
          <a:xfrm flipH="1">
            <a:off x="5249520" y="5474880"/>
            <a:ext cx="3124800" cy="391320"/>
          </a:xfrm>
          <a:prstGeom prst="curvedConnector5">
            <a:avLst>
              <a:gd name="adj1" fmla="val -7304"/>
              <a:gd name="adj2" fmla="val 24953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3"/>
            <a:endCxn id="98" idx="1"/>
          </p:cNvCxnSpPr>
          <p:nvPr/>
        </p:nvCxnSpPr>
        <p:spPr>
          <a:xfrm flipH="1">
            <a:off x="5249520" y="5865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859280" y="1268280"/>
            <a:ext cx="3960720" cy="531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BDB: B+ Tre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B+ tre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log N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age cac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LRU remov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peculative 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nds on hash DB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cords pages in hash DB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ucceeds time and space efficienc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stom comparison func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refix/range match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rsor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jump/next/prev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03640" y="3645000"/>
            <a:ext cx="304560" cy="804240"/>
            <a:chOff x="5003640" y="3645000"/>
            <a:chExt cx="304560" cy="804240"/>
          </a:xfrm>
        </p:grpSpPr>
        <p:sp>
          <p:nvSpPr>
            <p:cNvPr id="116" name=""/>
            <p:cNvSpPr/>
            <p:nvPr/>
          </p:nvSpPr>
          <p:spPr>
            <a:xfrm>
              <a:off x="5003640" y="364500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3640" y="38448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40464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42480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51640" y="3263760"/>
            <a:ext cx="304560" cy="804960"/>
            <a:chOff x="5651640" y="3263760"/>
            <a:chExt cx="304560" cy="804960"/>
          </a:xfrm>
        </p:grpSpPr>
        <p:sp>
          <p:nvSpPr>
            <p:cNvPr id="121" name=""/>
            <p:cNvSpPr/>
            <p:nvPr/>
          </p:nvSpPr>
          <p:spPr>
            <a:xfrm>
              <a:off x="5651640" y="32637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1640" y="3463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1640" y="3665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1640" y="38671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651640" y="4178160"/>
            <a:ext cx="304560" cy="804960"/>
            <a:chOff x="5651640" y="4178160"/>
            <a:chExt cx="304560" cy="804960"/>
          </a:xfrm>
        </p:grpSpPr>
        <p:sp>
          <p:nvSpPr>
            <p:cNvPr id="126" name=""/>
            <p:cNvSpPr/>
            <p:nvPr/>
          </p:nvSpPr>
          <p:spPr>
            <a:xfrm>
              <a:off x="5651640" y="41781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1640" y="4377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1640" y="4579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1640" y="47815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651640" y="5092560"/>
            <a:ext cx="304560" cy="804960"/>
            <a:chOff x="5651640" y="5092560"/>
            <a:chExt cx="304560" cy="804960"/>
          </a:xfrm>
        </p:grpSpPr>
        <p:sp>
          <p:nvSpPr>
            <p:cNvPr id="131" name=""/>
            <p:cNvSpPr/>
            <p:nvPr/>
          </p:nvSpPr>
          <p:spPr>
            <a:xfrm>
              <a:off x="5651640" y="50925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52923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1640" y="5493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1640" y="56959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651640" y="2349360"/>
            <a:ext cx="304560" cy="804960"/>
            <a:chOff x="5651640" y="2349360"/>
            <a:chExt cx="304560" cy="804960"/>
          </a:xfrm>
        </p:grpSpPr>
        <p:sp>
          <p:nvSpPr>
            <p:cNvPr id="136" name=""/>
            <p:cNvSpPr/>
            <p:nvPr/>
          </p:nvSpPr>
          <p:spPr>
            <a:xfrm>
              <a:off x="5651640" y="23493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2549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27507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1640" y="29527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"/>
          <p:cNvCxnSpPr>
            <a:stCxn id="119" idx="3"/>
            <a:endCxn id="134" idx="1"/>
          </p:cNvCxnSpPr>
          <p:nvPr/>
        </p:nvCxnSpPr>
        <p:spPr>
          <a:xfrm>
            <a:off x="5308200" y="4349520"/>
            <a:ext cx="343800" cy="144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3"/>
            <a:endCxn id="129" idx="1"/>
          </p:cNvCxnSpPr>
          <p:nvPr/>
        </p:nvCxnSpPr>
        <p:spPr>
          <a:xfrm>
            <a:off x="5308200" y="4147920"/>
            <a:ext cx="343800" cy="7351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7" idx="3"/>
            <a:endCxn id="124" idx="1"/>
          </p:cNvCxnSpPr>
          <p:nvPr/>
        </p:nvCxnSpPr>
        <p:spPr>
          <a:xfrm>
            <a:off x="5308200" y="3946320"/>
            <a:ext cx="343800" cy="2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6" idx="3"/>
            <a:endCxn id="139" idx="1"/>
          </p:cNvCxnSpPr>
          <p:nvPr/>
        </p:nvCxnSpPr>
        <p:spPr>
          <a:xfrm flipV="1">
            <a:off x="5308200" y="3053520"/>
            <a:ext cx="343800" cy="691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6703920" y="5483160"/>
            <a:ext cx="152640" cy="576360"/>
            <a:chOff x="6703920" y="5483160"/>
            <a:chExt cx="152640" cy="576360"/>
          </a:xfrm>
        </p:grpSpPr>
        <p:sp>
          <p:nvSpPr>
            <p:cNvPr id="145" name=""/>
            <p:cNvSpPr/>
            <p:nvPr/>
          </p:nvSpPr>
          <p:spPr>
            <a:xfrm>
              <a:off x="6703920" y="54831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3920" y="56264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3920" y="57708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3920" y="59151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03920" y="4797360"/>
            <a:ext cx="152640" cy="576360"/>
            <a:chOff x="6703920" y="4797360"/>
            <a:chExt cx="152640" cy="576360"/>
          </a:xfrm>
        </p:grpSpPr>
        <p:sp>
          <p:nvSpPr>
            <p:cNvPr id="150" name=""/>
            <p:cNvSpPr/>
            <p:nvPr/>
          </p:nvSpPr>
          <p:spPr>
            <a:xfrm>
              <a:off x="6703920" y="47973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3920" y="49406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03920" y="50850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3920" y="52293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703920" y="4111560"/>
            <a:ext cx="152640" cy="576360"/>
            <a:chOff x="6703920" y="4111560"/>
            <a:chExt cx="152640" cy="576360"/>
          </a:xfrm>
        </p:grpSpPr>
        <p:sp>
          <p:nvSpPr>
            <p:cNvPr id="155" name=""/>
            <p:cNvSpPr/>
            <p:nvPr/>
          </p:nvSpPr>
          <p:spPr>
            <a:xfrm>
              <a:off x="6703920" y="41115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3920" y="42548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3920" y="43992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3920" y="45435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03920" y="3425760"/>
            <a:ext cx="152640" cy="576360"/>
            <a:chOff x="6703920" y="3425760"/>
            <a:chExt cx="152640" cy="576360"/>
          </a:xfrm>
        </p:grpSpPr>
        <p:sp>
          <p:nvSpPr>
            <p:cNvPr id="160" name=""/>
            <p:cNvSpPr/>
            <p:nvPr/>
          </p:nvSpPr>
          <p:spPr>
            <a:xfrm>
              <a:off x="6703920" y="34257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5690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3920" y="37134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3920" y="38577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400800" y="3711600"/>
            <a:ext cx="152280" cy="576360"/>
            <a:chOff x="6400800" y="3711600"/>
            <a:chExt cx="152280" cy="576360"/>
          </a:xfrm>
        </p:grpSpPr>
        <p:sp>
          <p:nvSpPr>
            <p:cNvPr id="165" name=""/>
            <p:cNvSpPr/>
            <p:nvPr/>
          </p:nvSpPr>
          <p:spPr>
            <a:xfrm>
              <a:off x="6400800" y="37116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8548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39992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41436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00800" y="3025800"/>
            <a:ext cx="152280" cy="576360"/>
            <a:chOff x="6400800" y="3025800"/>
            <a:chExt cx="152280" cy="576360"/>
          </a:xfrm>
        </p:grpSpPr>
        <p:sp>
          <p:nvSpPr>
            <p:cNvPr id="170" name=""/>
            <p:cNvSpPr/>
            <p:nvPr/>
          </p:nvSpPr>
          <p:spPr>
            <a:xfrm>
              <a:off x="6400800" y="30258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31690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3134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4578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00800" y="2340000"/>
            <a:ext cx="152280" cy="576360"/>
            <a:chOff x="6400800" y="2340000"/>
            <a:chExt cx="152280" cy="576360"/>
          </a:xfrm>
        </p:grpSpPr>
        <p:sp>
          <p:nvSpPr>
            <p:cNvPr id="175" name=""/>
            <p:cNvSpPr/>
            <p:nvPr/>
          </p:nvSpPr>
          <p:spPr>
            <a:xfrm>
              <a:off x="6400800" y="23400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24832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0800" y="26276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0800" y="27720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00800" y="1654200"/>
            <a:ext cx="152280" cy="576360"/>
            <a:chOff x="6400800" y="1654200"/>
            <a:chExt cx="152280" cy="576360"/>
          </a:xfrm>
        </p:grpSpPr>
        <p:sp>
          <p:nvSpPr>
            <p:cNvPr id="180" name=""/>
            <p:cNvSpPr/>
            <p:nvPr/>
          </p:nvSpPr>
          <p:spPr>
            <a:xfrm>
              <a:off x="6400800" y="16542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7974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9418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0800" y="20862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4" name=""/>
          <p:cNvCxnSpPr>
            <a:stCxn id="134" idx="3"/>
            <a:endCxn id="148" idx="1"/>
          </p:cNvCxnSpPr>
          <p:nvPr/>
        </p:nvCxnSpPr>
        <p:spPr>
          <a:xfrm>
            <a:off x="5955840" y="5797080"/>
            <a:ext cx="748440" cy="19116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33" idx="3"/>
            <a:endCxn id="153" idx="1"/>
          </p:cNvCxnSpPr>
          <p:nvPr/>
        </p:nvCxnSpPr>
        <p:spPr>
          <a:xfrm flipV="1">
            <a:off x="5955840" y="5301720"/>
            <a:ext cx="748440" cy="294480"/>
          </a:xfrm>
          <a:prstGeom prst="curvedConnector5">
            <a:avLst>
              <a:gd name="adj1" fmla="val 49855"/>
              <a:gd name="adj2" fmla="val 49938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32" idx="3"/>
            <a:endCxn id="158" idx="1"/>
          </p:cNvCxnSpPr>
          <p:nvPr/>
        </p:nvCxnSpPr>
        <p:spPr>
          <a:xfrm flipV="1">
            <a:off x="5955840" y="4615560"/>
            <a:ext cx="748440" cy="77868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31" idx="3"/>
            <a:endCxn id="163" idx="1"/>
          </p:cNvCxnSpPr>
          <p:nvPr/>
        </p:nvCxnSpPr>
        <p:spPr>
          <a:xfrm flipV="1">
            <a:off x="5955840" y="3930120"/>
            <a:ext cx="748440" cy="1262880"/>
          </a:xfrm>
          <a:prstGeom prst="curvedConnector5">
            <a:avLst>
              <a:gd name="adj1" fmla="val 49855"/>
              <a:gd name="adj2" fmla="val 49985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29" idx="3"/>
            <a:endCxn id="168" idx="1"/>
          </p:cNvCxnSpPr>
          <p:nvPr/>
        </p:nvCxnSpPr>
        <p:spPr>
          <a:xfrm flipV="1">
            <a:off x="5955840" y="4215960"/>
            <a:ext cx="44532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28" idx="3"/>
            <a:endCxn id="173" idx="1"/>
          </p:cNvCxnSpPr>
          <p:nvPr/>
        </p:nvCxnSpPr>
        <p:spPr>
          <a:xfrm flipV="1">
            <a:off x="5955840" y="3529800"/>
            <a:ext cx="445320" cy="115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27" idx="3"/>
            <a:endCxn id="178" idx="1"/>
          </p:cNvCxnSpPr>
          <p:nvPr/>
        </p:nvCxnSpPr>
        <p:spPr>
          <a:xfrm flipV="1">
            <a:off x="5955840" y="2844360"/>
            <a:ext cx="445320" cy="16358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26" idx="3"/>
            <a:endCxn id="183" idx="1"/>
          </p:cNvCxnSpPr>
          <p:nvPr/>
        </p:nvCxnSpPr>
        <p:spPr>
          <a:xfrm flipV="1">
            <a:off x="5955840" y="2158200"/>
            <a:ext cx="445320" cy="21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236000" y="4005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1800" y="4005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4309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1800" y="4309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4614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1800" y="4614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36000" y="49197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1800" y="49197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5300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1800" y="5300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5605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1800" y="5605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5910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1800" y="5910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62150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1800" y="62150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48" idx="3"/>
            <a:endCxn id="206" idx="1"/>
          </p:cNvCxnSpPr>
          <p:nvPr/>
        </p:nvCxnSpPr>
        <p:spPr>
          <a:xfrm>
            <a:off x="6856560" y="5987880"/>
            <a:ext cx="380160" cy="380160"/>
          </a:xfrm>
          <a:prstGeom prst="curvedConnector5">
            <a:avLst>
              <a:gd name="adj1" fmla="val 49763"/>
              <a:gd name="adj2" fmla="val 49952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47" idx="3"/>
            <a:endCxn id="198" idx="1"/>
          </p:cNvCxnSpPr>
          <p:nvPr/>
        </p:nvCxnSpPr>
        <p:spPr>
          <a:xfrm flipV="1">
            <a:off x="6856560" y="5071320"/>
            <a:ext cx="380160" cy="77220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7236000" y="27097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1800" y="27097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3014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21800" y="3014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3319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1800" y="3319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6000" y="3624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1800" y="3624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46" idx="3"/>
            <a:endCxn id="216" idx="1"/>
          </p:cNvCxnSpPr>
          <p:nvPr/>
        </p:nvCxnSpPr>
        <p:spPr>
          <a:xfrm flipV="1">
            <a:off x="6856560" y="3776400"/>
            <a:ext cx="380160" cy="1923120"/>
          </a:xfrm>
          <a:prstGeom prst="curvedConnector5">
            <a:avLst>
              <a:gd name="adj1" fmla="val 49763"/>
              <a:gd name="adj2" fmla="val 4999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236000" y="14144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1800" y="14144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6000" y="1719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21800" y="1719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023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1800" y="2023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2328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1800" y="2328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45" idx="3"/>
            <a:endCxn id="225" idx="1"/>
          </p:cNvCxnSpPr>
          <p:nvPr/>
        </p:nvCxnSpPr>
        <p:spPr>
          <a:xfrm flipV="1">
            <a:off x="6856560" y="2480760"/>
            <a:ext cx="380160" cy="3074400"/>
          </a:xfrm>
          <a:prstGeom prst="curvedConnector5">
            <a:avLst>
              <a:gd name="adj1" fmla="val 49763"/>
              <a:gd name="adj2" fmla="val 49994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934880" y="1773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tre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GS創英角ﾎﾟｯﾌﾟ体"/>
              </a:rPr>
              <a:t>TCFDB: Fixed-length Database</a:t>
            </a:r>
            <a:endParaRPr b="0" lang="en-US" sz="45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rray of fixed-length element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atural number key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ddresses records by multiple of ke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ost effectiv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bulk load by mmap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key storage per recor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xtremely fast and concurr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2133720"/>
            <a:ext cx="4105440" cy="41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528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8360" y="256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8364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528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292572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364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328608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364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7528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364500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8364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528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400536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8364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528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48360" y="436572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8364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528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472608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364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528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508644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8364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528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544500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8364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7528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48360" y="580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8364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22068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TDB: Tabl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535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based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he primary key and named column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stands on hash DB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flexible structure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no data scheme, no data typ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structure for each record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query mechanism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operators matching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lexical/decimal orders by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indexe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implemented with B+ tre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yped as string/numb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inverted index of token/q-gram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query optimiz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1989000"/>
            <a:ext cx="4105440" cy="431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952880" y="2709720"/>
            <a:ext cx="3927600" cy="414360"/>
            <a:chOff x="4952880" y="2709720"/>
            <a:chExt cx="3927600" cy="414360"/>
          </a:xfrm>
        </p:grpSpPr>
        <p:sp>
          <p:nvSpPr>
            <p:cNvPr id="277" name=""/>
            <p:cNvSpPr/>
            <p:nvPr/>
          </p:nvSpPr>
          <p:spPr>
            <a:xfrm>
              <a:off x="4952880" y="27097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5880" y="27097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132600" y="2742840"/>
              <a:ext cx="871560" cy="338040"/>
              <a:chOff x="6132600" y="2742840"/>
              <a:chExt cx="871560" cy="338040"/>
            </a:xfrm>
          </p:grpSpPr>
          <p:sp>
            <p:nvSpPr>
              <p:cNvPr id="280" name=""/>
              <p:cNvSpPr/>
              <p:nvPr/>
            </p:nvSpPr>
            <p:spPr>
              <a:xfrm>
                <a:off x="61326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469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7047000" y="2742840"/>
              <a:ext cx="871560" cy="338040"/>
              <a:chOff x="7047000" y="2742840"/>
              <a:chExt cx="871560" cy="338040"/>
            </a:xfrm>
          </p:grpSpPr>
          <p:sp>
            <p:nvSpPr>
              <p:cNvPr id="283" name=""/>
              <p:cNvSpPr/>
              <p:nvPr/>
            </p:nvSpPr>
            <p:spPr>
              <a:xfrm>
                <a:off x="70470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613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7961400" y="2742840"/>
              <a:ext cx="871560" cy="338040"/>
              <a:chOff x="7961400" y="2742840"/>
              <a:chExt cx="871560" cy="33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79614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757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4952880" y="3243240"/>
            <a:ext cx="3927600" cy="414360"/>
            <a:chOff x="4952880" y="3243240"/>
            <a:chExt cx="3927600" cy="414360"/>
          </a:xfrm>
        </p:grpSpPr>
        <p:sp>
          <p:nvSpPr>
            <p:cNvPr id="289" name=""/>
            <p:cNvSpPr/>
            <p:nvPr/>
          </p:nvSpPr>
          <p:spPr>
            <a:xfrm>
              <a:off x="4952880" y="32432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32432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132600" y="3276360"/>
              <a:ext cx="871560" cy="338040"/>
              <a:chOff x="6132600" y="3276360"/>
              <a:chExt cx="871560" cy="338040"/>
            </a:xfrm>
          </p:grpSpPr>
          <p:sp>
            <p:nvSpPr>
              <p:cNvPr id="292" name=""/>
              <p:cNvSpPr/>
              <p:nvPr/>
            </p:nvSpPr>
            <p:spPr>
              <a:xfrm>
                <a:off x="61326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469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047000" y="3276360"/>
              <a:ext cx="871560" cy="338040"/>
              <a:chOff x="7047000" y="3276360"/>
              <a:chExt cx="871560" cy="338040"/>
            </a:xfrm>
          </p:grpSpPr>
          <p:sp>
            <p:nvSpPr>
              <p:cNvPr id="295" name=""/>
              <p:cNvSpPr/>
              <p:nvPr/>
            </p:nvSpPr>
            <p:spPr>
              <a:xfrm>
                <a:off x="70470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613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7961400" y="3276360"/>
              <a:ext cx="871560" cy="338040"/>
              <a:chOff x="7961400" y="3276360"/>
              <a:chExt cx="871560" cy="338040"/>
            </a:xfrm>
          </p:grpSpPr>
          <p:sp>
            <p:nvSpPr>
              <p:cNvPr id="298" name=""/>
              <p:cNvSpPr/>
              <p:nvPr/>
            </p:nvSpPr>
            <p:spPr>
              <a:xfrm>
                <a:off x="79614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757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4952880" y="3776760"/>
            <a:ext cx="3927600" cy="414360"/>
            <a:chOff x="4952880" y="3776760"/>
            <a:chExt cx="3927600" cy="414360"/>
          </a:xfrm>
        </p:grpSpPr>
        <p:sp>
          <p:nvSpPr>
            <p:cNvPr id="301" name=""/>
            <p:cNvSpPr/>
            <p:nvPr/>
          </p:nvSpPr>
          <p:spPr>
            <a:xfrm>
              <a:off x="4952880" y="37767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37767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132600" y="3809880"/>
              <a:ext cx="871560" cy="338040"/>
              <a:chOff x="6132600" y="3809880"/>
              <a:chExt cx="871560" cy="338040"/>
            </a:xfrm>
          </p:grpSpPr>
          <p:sp>
            <p:nvSpPr>
              <p:cNvPr id="304" name=""/>
              <p:cNvSpPr/>
              <p:nvPr/>
            </p:nvSpPr>
            <p:spPr>
              <a:xfrm>
                <a:off x="61326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469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047000" y="3809880"/>
              <a:ext cx="871560" cy="338040"/>
              <a:chOff x="7047000" y="3809880"/>
              <a:chExt cx="871560" cy="338040"/>
            </a:xfrm>
          </p:grpSpPr>
          <p:sp>
            <p:nvSpPr>
              <p:cNvPr id="307" name=""/>
              <p:cNvSpPr/>
              <p:nvPr/>
            </p:nvSpPr>
            <p:spPr>
              <a:xfrm>
                <a:off x="70470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613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961400" y="3809880"/>
              <a:ext cx="871560" cy="338040"/>
              <a:chOff x="7961400" y="3809880"/>
              <a:chExt cx="871560" cy="338040"/>
            </a:xfrm>
          </p:grpSpPr>
          <p:sp>
            <p:nvSpPr>
              <p:cNvPr id="310" name=""/>
              <p:cNvSpPr/>
              <p:nvPr/>
            </p:nvSpPr>
            <p:spPr>
              <a:xfrm>
                <a:off x="79614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757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4952880" y="4309920"/>
            <a:ext cx="3927600" cy="414360"/>
            <a:chOff x="4952880" y="4309920"/>
            <a:chExt cx="3927600" cy="414360"/>
          </a:xfrm>
        </p:grpSpPr>
        <p:sp>
          <p:nvSpPr>
            <p:cNvPr id="313" name=""/>
            <p:cNvSpPr/>
            <p:nvPr/>
          </p:nvSpPr>
          <p:spPr>
            <a:xfrm>
              <a:off x="4952880" y="43099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43099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6132600" y="4343040"/>
              <a:ext cx="871560" cy="338040"/>
              <a:chOff x="6132600" y="4343040"/>
              <a:chExt cx="871560" cy="338040"/>
            </a:xfrm>
          </p:grpSpPr>
          <p:sp>
            <p:nvSpPr>
              <p:cNvPr id="316" name=""/>
              <p:cNvSpPr/>
              <p:nvPr/>
            </p:nvSpPr>
            <p:spPr>
              <a:xfrm>
                <a:off x="61326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469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047000" y="4343040"/>
              <a:ext cx="871560" cy="338040"/>
              <a:chOff x="7047000" y="4343040"/>
              <a:chExt cx="871560" cy="338040"/>
            </a:xfrm>
          </p:grpSpPr>
          <p:sp>
            <p:nvSpPr>
              <p:cNvPr id="319" name=""/>
              <p:cNvSpPr/>
              <p:nvPr/>
            </p:nvSpPr>
            <p:spPr>
              <a:xfrm>
                <a:off x="70470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613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961400" y="4343040"/>
              <a:ext cx="871560" cy="338040"/>
              <a:chOff x="7961400" y="4343040"/>
              <a:chExt cx="871560" cy="338040"/>
            </a:xfrm>
          </p:grpSpPr>
          <p:sp>
            <p:nvSpPr>
              <p:cNvPr id="322" name=""/>
              <p:cNvSpPr/>
              <p:nvPr/>
            </p:nvSpPr>
            <p:spPr>
              <a:xfrm>
                <a:off x="79614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757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952880" y="4843440"/>
            <a:ext cx="3927600" cy="414360"/>
            <a:chOff x="4952880" y="4843440"/>
            <a:chExt cx="3927600" cy="414360"/>
          </a:xfrm>
        </p:grpSpPr>
        <p:sp>
          <p:nvSpPr>
            <p:cNvPr id="325" name=""/>
            <p:cNvSpPr/>
            <p:nvPr/>
          </p:nvSpPr>
          <p:spPr>
            <a:xfrm>
              <a:off x="4952880" y="48434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48434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32600" y="4876560"/>
              <a:ext cx="871560" cy="338040"/>
              <a:chOff x="6132600" y="4876560"/>
              <a:chExt cx="871560" cy="338040"/>
            </a:xfrm>
          </p:grpSpPr>
          <p:sp>
            <p:nvSpPr>
              <p:cNvPr id="328" name=""/>
              <p:cNvSpPr/>
              <p:nvPr/>
            </p:nvSpPr>
            <p:spPr>
              <a:xfrm>
                <a:off x="61326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69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47000" y="4876560"/>
              <a:ext cx="871560" cy="338040"/>
              <a:chOff x="7047000" y="4876560"/>
              <a:chExt cx="871560" cy="338040"/>
            </a:xfrm>
          </p:grpSpPr>
          <p:sp>
            <p:nvSpPr>
              <p:cNvPr id="331" name=""/>
              <p:cNvSpPr/>
              <p:nvPr/>
            </p:nvSpPr>
            <p:spPr>
              <a:xfrm>
                <a:off x="70470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613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961400" y="4876560"/>
              <a:ext cx="871560" cy="338040"/>
              <a:chOff x="7961400" y="4876560"/>
              <a:chExt cx="871560" cy="338040"/>
            </a:xfrm>
          </p:grpSpPr>
          <p:sp>
            <p:nvSpPr>
              <p:cNvPr id="334" name=""/>
              <p:cNvSpPr/>
              <p:nvPr/>
            </p:nvSpPr>
            <p:spPr>
              <a:xfrm>
                <a:off x="79614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757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952880" y="5376960"/>
            <a:ext cx="3927600" cy="414360"/>
            <a:chOff x="4952880" y="5376960"/>
            <a:chExt cx="3927600" cy="414360"/>
          </a:xfrm>
        </p:grpSpPr>
        <p:sp>
          <p:nvSpPr>
            <p:cNvPr id="337" name=""/>
            <p:cNvSpPr/>
            <p:nvPr/>
          </p:nvSpPr>
          <p:spPr>
            <a:xfrm>
              <a:off x="4952880" y="53769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5880" y="53769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132600" y="5410080"/>
              <a:ext cx="871560" cy="338040"/>
              <a:chOff x="6132600" y="5410080"/>
              <a:chExt cx="871560" cy="338040"/>
            </a:xfrm>
          </p:grpSpPr>
          <p:sp>
            <p:nvSpPr>
              <p:cNvPr id="340" name=""/>
              <p:cNvSpPr/>
              <p:nvPr/>
            </p:nvSpPr>
            <p:spPr>
              <a:xfrm>
                <a:off x="61326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469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47000" y="5410080"/>
              <a:ext cx="871560" cy="338040"/>
              <a:chOff x="7047000" y="5410080"/>
              <a:chExt cx="871560" cy="338040"/>
            </a:xfrm>
          </p:grpSpPr>
          <p:sp>
            <p:nvSpPr>
              <p:cNvPr id="343" name=""/>
              <p:cNvSpPr/>
              <p:nvPr/>
            </p:nvSpPr>
            <p:spPr>
              <a:xfrm>
                <a:off x="70470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613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961400" y="5410080"/>
              <a:ext cx="871560" cy="338040"/>
              <a:chOff x="7961400" y="5410080"/>
              <a:chExt cx="871560" cy="338040"/>
            </a:xfrm>
          </p:grpSpPr>
          <p:sp>
            <p:nvSpPr>
              <p:cNvPr id="346" name=""/>
              <p:cNvSpPr/>
              <p:nvPr/>
            </p:nvSpPr>
            <p:spPr>
              <a:xfrm>
                <a:off x="79614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757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5000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53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05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579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102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25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151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674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97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246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769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295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818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341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86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39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91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08480" y="598644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um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35840" y="2633760"/>
            <a:ext cx="903240" cy="3352680"/>
          </a:xfrm>
          <a:custGeom>
            <a:avLst/>
            <a:gdLst>
              <a:gd name="textAreaLeft" fmla="*/ 43920 w 903240"/>
              <a:gd name="textAreaRight" fmla="*/ 859320 w 903240"/>
              <a:gd name="textAreaTop" fmla="*/ 43920 h 3352680"/>
              <a:gd name="textAreaBottom" fmla="*/ 3308760 h 3352680"/>
            </a:gdLst>
            <a:ahLst/>
            <a:rect l="textAreaLeft" t="textAreaTop" r="textAreaRight" b="textAreaBottom"/>
            <a:pathLst>
              <a:path w="21600" h="80152">
                <a:moveTo>
                  <a:pt x="3600" y="0"/>
                </a:moveTo>
                <a:arcTo wR="3600" hR="3600" stAng="16200000" swAng="-5400000"/>
                <a:lnTo>
                  <a:pt x="0" y="76552"/>
                </a:lnTo>
                <a:arcTo wR="3600" hR="3600" stAng="10800000" swAng="-5400000"/>
                <a:lnTo>
                  <a:pt x="18000" y="80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09040" y="21240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51" idx="2"/>
            <a:endCxn id="277" idx="0"/>
          </p:cNvCxnSpPr>
          <p:nvPr/>
        </p:nvCxnSpPr>
        <p:spPr>
          <a:xfrm rot="5400000">
            <a:off x="5352480" y="2528640"/>
            <a:ext cx="276840" cy="86400"/>
          </a:xfrm>
          <a:prstGeom prst="curvedConnector5">
            <a:avLst>
              <a:gd name="adj1" fmla="val 50000"/>
              <a:gd name="adj2" fmla="val 4979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7" idx="2"/>
            <a:endCxn id="313" idx="0"/>
          </p:cNvCxnSpPr>
          <p:nvPr/>
        </p:nvCxnSpPr>
        <p:spPr>
          <a:xfrm rot="5400000">
            <a:off x="5009400" y="2871720"/>
            <a:ext cx="1877040" cy="1000800"/>
          </a:xfrm>
          <a:prstGeom prst="curvedConnector5">
            <a:avLst>
              <a:gd name="adj1" fmla="val 49990"/>
              <a:gd name="adj2" fmla="val 49982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37" idx="0"/>
          </p:cNvCxnSpPr>
          <p:nvPr/>
        </p:nvCxnSpPr>
        <p:spPr>
          <a:xfrm rot="5400000">
            <a:off x="4247280" y="3633840"/>
            <a:ext cx="2944080" cy="543600"/>
          </a:xfrm>
          <a:prstGeom prst="curvedConnector5">
            <a:avLst>
              <a:gd name="adj1" fmla="val 49993"/>
              <a:gd name="adj2" fmla="val 49966"/>
              <a:gd name="adj3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61" idx="2"/>
            <a:endCxn id="289" idx="0"/>
          </p:cNvCxnSpPr>
          <p:nvPr/>
        </p:nvCxnSpPr>
        <p:spPr>
          <a:xfrm rot="5400000">
            <a:off x="5847840" y="2033280"/>
            <a:ext cx="810360" cy="16106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59" idx="2"/>
            <a:endCxn id="325" idx="0"/>
          </p:cNvCxnSpPr>
          <p:nvPr/>
        </p:nvCxnSpPr>
        <p:spPr>
          <a:xfrm rot="5400000">
            <a:off x="4894920" y="2985840"/>
            <a:ext cx="2410560" cy="13057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56" idx="2"/>
            <a:endCxn id="301" idx="0"/>
          </p:cNvCxnSpPr>
          <p:nvPr/>
        </p:nvCxnSpPr>
        <p:spPr>
          <a:xfrm rot="5400000">
            <a:off x="5199840" y="2680920"/>
            <a:ext cx="1343880" cy="84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8:08:37Z</dcterms:created>
  <dc:creator>hirabayashi</dc:creator>
  <dc:description/>
  <dc:language>en-US</dc:language>
  <cp:lastModifiedBy>hirabayashi</cp:lastModifiedBy>
  <dcterms:modified xsi:type="dcterms:W3CDTF">2009-11-05T11:30:31Z</dcterms:modified>
  <cp:revision>63</cp:revision>
  <dc:subject/>
  <dc:title>Tokyo Products</dc:title>
</cp:coreProperties>
</file>