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BD31F48D-3A50-44A7-88DE-E8818A9A5A3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Img"/>
          </p:nvPr>
        </p:nvSpPr>
        <p:spPr>
          <a:xfrm>
            <a:off x="1152360" y="691920"/>
            <a:ext cx="455472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882960" y="-1440"/>
            <a:ext cx="2975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82960" y="8683560"/>
            <a:ext cx="29750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-1440" y="8683560"/>
            <a:ext cx="2973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-1440" y="-144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52360" y="690480"/>
            <a:ext cx="4553280" cy="34149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2960" y="4341600"/>
            <a:ext cx="502920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B179-C4CC-4F25-9CE6-57C566CB2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831852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18680" y="4132440"/>
            <a:ext cx="831852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1164-A95C-44BD-B9AA-DDD1D630C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440" y="148572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18680" y="413244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440" y="413244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84E3-63BB-45BB-BCBB-CE18BCA2E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267840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1360" y="1485720"/>
            <a:ext cx="267840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4040" y="1485720"/>
            <a:ext cx="267840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18680" y="4132440"/>
            <a:ext cx="267840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1360" y="4132440"/>
            <a:ext cx="267840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4040" y="4132440"/>
            <a:ext cx="267840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8DC1-702C-4746-AA5B-31F7250F4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18680" y="1485720"/>
            <a:ext cx="8318520" cy="50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7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7419-9B57-4903-9CBC-8EEC12D37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831852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D1F1-9BBF-4FA8-BD7C-1120271B0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40593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440" y="1485720"/>
            <a:ext cx="40593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EE31-5B5B-49C4-8670-9586C371B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4BBC-3B36-4DBA-BFC5-59416E877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18680" y="298440"/>
            <a:ext cx="828036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7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E31E-512C-4788-9AE4-A515AB58A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485720"/>
            <a:ext cx="40593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8680" y="413244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ACBF-D8F9-4F8B-B96D-30712EDCE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40593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48572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440" y="413244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DD8B-BF02-447B-8BE9-DC4225604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440" y="1485720"/>
            <a:ext cx="405936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18680" y="4132440"/>
            <a:ext cx="8318520" cy="241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289D-6AFA-437F-80AE-0091B8248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49C9A-8220-4E0C-9677-8DF2387EA3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18680" y="1485720"/>
            <a:ext cx="831852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20840" indent="-2286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63560" indent="-228600">
              <a:lnSpc>
                <a:spcPts val="2798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ts val="2798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ts val="2798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ts val="2798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98520" y="6591240"/>
            <a:ext cx="70308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6089"/>
                </a:solidFill>
                <a:latin typeface="Arial"/>
              </a:rPr>
              <a:t>CA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19040" y="1251000"/>
            <a:ext cx="8305920" cy="196920"/>
            <a:chOff x="419040" y="1251000"/>
            <a:chExt cx="8305920" cy="196920"/>
          </a:xfrm>
        </p:grpSpPr>
        <p:sp>
          <p:nvSpPr>
            <p:cNvPr id="7" name=""/>
            <p:cNvSpPr/>
            <p:nvPr/>
          </p:nvSpPr>
          <p:spPr>
            <a:xfrm>
              <a:off x="419040" y="1251000"/>
              <a:ext cx="8305920" cy="96840"/>
            </a:xfrm>
            <a:prstGeom prst="rect">
              <a:avLst/>
            </a:prstGeom>
            <a:gradFill rotWithShape="0">
              <a:gsLst>
                <a:gs pos="0">
                  <a:srgbClr val="0e9ab9"/>
                </a:gs>
                <a:gs pos="50000">
                  <a:srgbClr val="12c2e9"/>
                </a:gs>
                <a:gs pos="100000">
                  <a:srgbClr val="0e9a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419040" y="1398600"/>
              <a:ext cx="8305920" cy="4932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895120"/>
            <a:ext cx="861048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ott Kohn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rew Cleary, Steven G. Smith, and Brent Smolinski</a:t>
            </a:r>
            <a:br>
              <a:rPr sz="2400"/>
            </a:br>
            <a:br>
              <a:rPr sz="24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enter for Applied Scientific Computing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awrence Livermore National Laboratory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tober 21, 199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47840" y="5892840"/>
            <a:ext cx="2286000" cy="851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873920" y="6022800"/>
            <a:ext cx="673200" cy="6508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04920" y="114300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nguage Interoperability Mechanisms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36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-Performance Scientific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533520" y="824040"/>
            <a:ext cx="8076960" cy="152280"/>
            <a:chOff x="533520" y="824040"/>
            <a:chExt cx="8076960" cy="152280"/>
          </a:xfrm>
        </p:grpSpPr>
        <p:sp>
          <p:nvSpPr>
            <p:cNvPr id="57" name=""/>
            <p:cNvSpPr/>
            <p:nvPr/>
          </p:nvSpPr>
          <p:spPr>
            <a:xfrm>
              <a:off x="533520" y="824040"/>
              <a:ext cx="8076960" cy="74520"/>
            </a:xfrm>
            <a:prstGeom prst="rect">
              <a:avLst/>
            </a:prstGeom>
            <a:gradFill rotWithShape="0">
              <a:gsLst>
                <a:gs pos="0">
                  <a:srgbClr val="10add0"/>
                </a:gs>
                <a:gs pos="50000">
                  <a:srgbClr val="12c2e9"/>
                </a:gs>
                <a:gs pos="100000">
                  <a:srgbClr val="10ad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33520" y="938160"/>
              <a:ext cx="8076960" cy="3816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533520" y="2508120"/>
            <a:ext cx="8076960" cy="152640"/>
            <a:chOff x="533520" y="2508120"/>
            <a:chExt cx="8076960" cy="152640"/>
          </a:xfrm>
        </p:grpSpPr>
        <p:sp>
          <p:nvSpPr>
            <p:cNvPr id="60" name=""/>
            <p:cNvSpPr/>
            <p:nvPr/>
          </p:nvSpPr>
          <p:spPr>
            <a:xfrm>
              <a:off x="533520" y="2508120"/>
              <a:ext cx="8076960" cy="74880"/>
            </a:xfrm>
            <a:prstGeom prst="rect">
              <a:avLst/>
            </a:prstGeom>
            <a:gradFill rotWithShape="0">
              <a:gsLst>
                <a:gs pos="0">
                  <a:srgbClr val="10add0"/>
                </a:gs>
                <a:gs pos="50000">
                  <a:srgbClr val="12c2e9"/>
                </a:gs>
                <a:gs pos="100000">
                  <a:srgbClr val="10ad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3520" y="2622600"/>
              <a:ext cx="8076960" cy="3816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DL glue code bridges languag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3280" y="3200400"/>
            <a:ext cx="3842640" cy="1552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</a:t>
            </a:r>
            <a:r>
              <a:rPr b="1" lang="en-US" sz="1600" spc="-1" strike="noStrike">
                <a:solidFill>
                  <a:srgbClr val="006b61"/>
                </a:solidFill>
                <a:latin typeface="Courier New"/>
              </a:rPr>
              <a:t>Solve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uble dot(in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y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231960" y="1741320"/>
            <a:ext cx="1680480" cy="398880"/>
          </a:xfrm>
          <a:prstGeom prst="rect">
            <a:avLst/>
          </a:prstGeom>
          <a:noFill/>
          <a:ln w="2844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Library U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609520" y="2752560"/>
            <a:ext cx="2925360" cy="398880"/>
          </a:xfrm>
          <a:prstGeom prst="rect">
            <a:avLst/>
          </a:prstGeom>
          <a:noFill/>
          <a:ln w="2844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Solver_Vector_dot (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540040" y="3765600"/>
            <a:ext cx="3065760" cy="398880"/>
          </a:xfrm>
          <a:prstGeom prst="rect">
            <a:avLst/>
          </a:prstGeom>
          <a:noFill/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IDL “Run-Time System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580720" y="4778280"/>
            <a:ext cx="2983320" cy="398880"/>
          </a:xfrm>
          <a:prstGeom prst="rect">
            <a:avLst/>
          </a:prstGeom>
          <a:noFill/>
          <a:ln w="28440">
            <a:solidFill>
              <a:srgbClr val="0c6d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Solver::Vector::dot (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575320" y="5791320"/>
            <a:ext cx="2992680" cy="398880"/>
          </a:xfrm>
          <a:prstGeom prst="rect">
            <a:avLst/>
          </a:prstGeom>
          <a:noFill/>
          <a:ln w="28440">
            <a:solidFill>
              <a:srgbClr val="0c6d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Library Imple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039200" y="2666880"/>
            <a:ext cx="86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stu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09880" y="495288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skelet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0" idx="2"/>
            <a:endCxn id="181" idx="0"/>
          </p:cNvCxnSpPr>
          <p:nvPr/>
        </p:nvCxnSpPr>
        <p:spPr>
          <a:xfrm>
            <a:off x="7071840" y="2181240"/>
            <a:ext cx="1080" cy="558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8" name=""/>
          <p:cNvCxnSpPr>
            <a:stCxn id="181" idx="2"/>
            <a:endCxn id="182" idx="0"/>
          </p:cNvCxnSpPr>
          <p:nvPr/>
        </p:nvCxnSpPr>
        <p:spPr>
          <a:xfrm>
            <a:off x="7071840" y="3192480"/>
            <a:ext cx="2520" cy="559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9" name=""/>
          <p:cNvCxnSpPr>
            <a:stCxn id="182" idx="2"/>
            <a:endCxn id="183" idx="0"/>
          </p:cNvCxnSpPr>
          <p:nvPr/>
        </p:nvCxnSpPr>
        <p:spPr>
          <a:xfrm flipH="1">
            <a:off x="7071480" y="4204800"/>
            <a:ext cx="2520" cy="5598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0" name=""/>
          <p:cNvCxnSpPr>
            <a:stCxn id="183" idx="2"/>
            <a:endCxn id="184" idx="0"/>
          </p:cNvCxnSpPr>
          <p:nvPr/>
        </p:nvCxnSpPr>
        <p:spPr>
          <a:xfrm>
            <a:off x="7071840" y="5218200"/>
            <a:ext cx="1080" cy="559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1" name=""/>
          <p:cNvSpPr/>
          <p:nvPr/>
        </p:nvSpPr>
        <p:spPr>
          <a:xfrm>
            <a:off x="4343400" y="4800600"/>
            <a:ext cx="10666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4343400" y="2971440"/>
            <a:ext cx="114300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lling the IDL stubs from user co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903760" y="1523880"/>
            <a:ext cx="5301360" cy="1372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ouble error(</a:t>
            </a:r>
            <a:r>
              <a:rPr b="1" lang="en-US" sz="1400" spc="-1" strike="noStrike">
                <a:solidFill>
                  <a:srgbClr val="0c6d9c"/>
                </a:solidFill>
                <a:latin typeface="Courier New"/>
              </a:rPr>
              <a:t>Solver::Matrix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A, </a:t>
            </a:r>
            <a:r>
              <a:rPr b="1" lang="en-US" sz="1400" spc="-1" strike="noStrike">
                <a:solidFill>
                  <a:srgbClr val="0c6d9c"/>
                </a:solidFill>
                <a:latin typeface="Courier New"/>
              </a:rPr>
              <a:t>Solver::Vecto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x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c6d9c"/>
                </a:solidFill>
                <a:latin typeface="Courier New"/>
              </a:rPr>
              <a:t>Solver::Vecto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r = x.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clon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.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apply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r, x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(r.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do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r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905560" y="4876920"/>
            <a:ext cx="4127760" cy="1798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ouble precision function error(A, x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c6d9c"/>
                </a:solidFill>
                <a:latin typeface="Courier New"/>
              </a:rPr>
              <a:t>intege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A, x, 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 =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Solver_Vector_clon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x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Solver_Matrix_apply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A, r, x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rror =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Solver_Vector_do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r, 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ll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Solver_Vector_delet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904480" y="2987640"/>
            <a:ext cx="5087520" cy="1798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ouble error(</a:t>
            </a:r>
            <a:r>
              <a:rPr b="1" lang="en-US" sz="1400" spc="-1" strike="noStrike">
                <a:solidFill>
                  <a:srgbClr val="0c6d9c"/>
                </a:solidFill>
                <a:latin typeface="Courier New"/>
              </a:rPr>
              <a:t>Solver_Matrix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A, </a:t>
            </a:r>
            <a:r>
              <a:rPr b="1" lang="en-US" sz="1400" spc="-1" strike="noStrike">
                <a:solidFill>
                  <a:srgbClr val="0c6d9c"/>
                </a:solidFill>
                <a:latin typeface="Courier New"/>
              </a:rPr>
              <a:t>Solver_Vecto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x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c6d9c"/>
                </a:solidFill>
                <a:latin typeface="Courier New"/>
              </a:rPr>
              <a:t>Solver_Vecto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r =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Solver_Vector_clon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x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Solver_Matrix_apply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A, r, x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ouble result =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 Solver_Vector_do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r, 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Solver_Vector_delet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(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(resul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9560" y="1963800"/>
            <a:ext cx="85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b61"/>
                </a:solidFill>
                <a:latin typeface="Arial"/>
              </a:rPr>
              <a:t>C+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76920" y="36399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b61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508040" y="534528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148400" y="5527800"/>
            <a:ext cx="6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b61"/>
                </a:solidFill>
                <a:latin typeface="Arial"/>
              </a:rPr>
              <a:t>f7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551000" y="5715000"/>
            <a:ext cx="1241280" cy="703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18680" y="1485720"/>
            <a:ext cx="831852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-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data copies (means single address-spac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head of a C++ virtual function call (or maybe a few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s in either a threaded or MPI environ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8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nguage sup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, C++, Fortran 77/90 in “high-performance” m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ava and Python with maybe a little more overhea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vestigate support for prototyping tools like MatLa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8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ressibility for ID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fficiently general to express most scientific interfa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st be object oriented and support error mechanis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0">
              <a:lnSpc>
                <a:spcPts val="2798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380520" y="30492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ign goals for the interoperability of high-performance scientific softwa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600" y="29844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earch issues for scientific interoperabil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7249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rage existing technology where appropri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BA and ILU IDLs and language mapp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ava inheritance and introspection ide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5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arch 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features are needed in a “Scientific IDL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pping the “Scientific IDL” onto Fortr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ance and overheads in the run-time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5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c research approach in our proj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e a simple prototype can work in a scientific environ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n … add new features (e.g., distributed computati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ts val="27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0">
              <a:lnSpc>
                <a:spcPts val="2798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our “Scientific IDL” looks lik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84963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447840" indent="-44784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rt with the CORBA ID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7960" indent="-39780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ct oriented, exceptions, namespa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7960" indent="-39780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ntax similar to Java and C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7960" indent="-39780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ppings to all languages of interest but Fortr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iminate (for now, anyway) unnecessary feat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7960" indent="-39780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-way qualifi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7960" indent="-39780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uct and union (performance and Fortran consideration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7960" indent="-39780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BA arrays and sequences (replaced - see below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new data types and fix stupid thing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7960" indent="-39780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BA inheritance model broken - adopt Jav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7960" indent="-39780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 complex type and dynamic multidimensional array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7960" indent="-39780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 static and final qualifiers for metho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new IDL looks a lot like Jav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7249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DL specification for a linear solver packa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04920" y="1600200"/>
            <a:ext cx="8686800" cy="5030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 </a:t>
            </a:r>
            <a:r>
              <a:rPr b="1" lang="en-US" sz="1800" spc="-1" strike="noStrike">
                <a:solidFill>
                  <a:srgbClr val="006b61"/>
                </a:solidFill>
                <a:latin typeface="Courier New"/>
              </a:rPr>
              <a:t>Solv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lon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 dot(in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axpy(in double a, in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initialize(in array&lt;double,1&gt; data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Matri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apply(out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x, in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US" sz="1800" spc="-1" strike="noStrike">
                <a:solidFill>
                  <a:srgbClr val="800080"/>
                </a:solidFill>
                <a:latin typeface="Courier New"/>
              </a:rPr>
              <a:t>SparseMatri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implements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Matrix, RowAddressi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apply(out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x, in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US" sz="1800" spc="-1" strike="noStrike">
                <a:solidFill>
                  <a:srgbClr val="800080"/>
                </a:solidFill>
                <a:latin typeface="Courier New"/>
              </a:rPr>
              <a:t>C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extends </a:t>
            </a:r>
            <a:r>
              <a:rPr b="1" lang="en-US" sz="1800" spc="-1" strike="noStrike">
                <a:solidFill>
                  <a:srgbClr val="800080"/>
                </a:solidFill>
                <a:latin typeface="Courier New"/>
              </a:rPr>
              <a:t>Krylov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implements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AbstractSolv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solve(in </a:t>
            </a:r>
            <a:r>
              <a:rPr b="1" lang="en-US" sz="1800" spc="-1" strike="noStrike">
                <a:solidFill>
                  <a:srgbClr val="0c6d9c"/>
                </a:solidFill>
                <a:latin typeface="Courier New"/>
              </a:rPr>
              <a:t>Matri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,...) throws </a:t>
            </a:r>
            <a:r>
              <a:rPr b="1" lang="en-US" sz="1800" spc="-1" strike="noStrike">
                <a:solidFill>
                  <a:srgbClr val="ff0033"/>
                </a:solidFill>
                <a:latin typeface="Courier New"/>
              </a:rPr>
              <a:t>ConvergenceExceptio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093080" y="2057400"/>
            <a:ext cx="1369440" cy="131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ex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pack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aluation of IDL expressibil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724960" cy="476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fficiently expressive for some numerical packa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yp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KINSOL, structured AMR linear solvers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oked at some parts of the PETSc pack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5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 system limited to types expressible in the ID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pointers and currently no templa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blems with external opaque objects (e.g.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PI_Com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… only high-level interfaces will be expressed in the ID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5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re than just the intersection of language capabilit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atures can be supported through the run-time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.g., object-oriented support in C or f7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.g., introspection, RTTI, reference counting, exceptions …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nguage mapping issu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724960" cy="52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52520" indent="-45252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tran 77/90 are the only real probl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, C++, Java mappings are defined by CORB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mappings are defined by IL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constructs do not add to complexity of language map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ts val="2798"/>
              </a:lnSpc>
              <a:spcBef>
                <a:spcPts val="20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tran 77 should be 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llow C bindings for function nam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aque object references become integers (as in MPI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structs or unions needed (or can be mapped to object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ts val="2798"/>
              </a:lnSpc>
              <a:spcBef>
                <a:spcPts val="20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tran 90 will be major pain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use f77 mapping and not exploit expanded type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nt IDL arrays to map onto Fortran 90 array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ling sequences and array descriptors compiler-depend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… doing this by hand would be almost impossi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0">
              <a:lnSpc>
                <a:spcPts val="2798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formance and the run-time syste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7249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ned run-time system is very simp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 address space (perhaps distributed later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L design means no data copies (perhaps array transpos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ymorphism requires function tables as in C++ or PETS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head is a few function calls (could be inlined away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8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 what do we need in a run-time system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ation of vtables for Java inheritance mod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p/down casting and introspection quer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ct reference coun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ception support as in CORBA (really just error return code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ther miscellaneous stuff (complex numbers in C, etc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ject status and future develop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724960" cy="415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rent implementation stat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ser/analyzer written in Java with JavaC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type for polymorphism/multiple inheritance support in 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ting prototype with parser stub gen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5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ture development pl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e the technology can work in 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 interoperability for C, C++, and f7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 language mappings for f9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 language mappings for Java, Python, and MatLab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 distributed capabilities (borrow existing technology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743200"/>
            <a:ext cx="8724960" cy="361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ditional interoperability mechanis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ew of IDL techno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ing an IDL for interoperability in scientific compu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is a “Scientific IDL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tran issu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ance consider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1199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sis and conclus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160020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c6d9c"/>
                </a:solidFill>
                <a:uFillTx/>
                <a:latin typeface="Arial"/>
              </a:rPr>
              <a:t>Goal</a:t>
            </a:r>
            <a:r>
              <a:rPr b="1" lang="en-US" sz="2400" spc="-1" strike="noStrike">
                <a:solidFill>
                  <a:srgbClr val="0c6d9c"/>
                </a:solidFill>
                <a:latin typeface="Arial"/>
              </a:rPr>
              <a:t>:  Apply IDL interoperability technology to problems in high-performance parallel scientific compu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lysis and conclus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7249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antages of the IDL approa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guage interoperability (even for Fortran 90!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omatic support for object oriented features in 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ressive enough for many numerical libraries (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L provides a nice description language for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omatically generates type information for introsp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8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advantages and potential probl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brary designers write the IDL description (but … it’s simpl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guage mapping may not be as “natural” as if by ha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ypes are limited to the IDL type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28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are the alternative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18680" y="1485720"/>
            <a:ext cx="831852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 performed under the auspices of the U.S. Departmen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Energy by Lawrence Livermore National Laboratory under Contract W-7405-Eng-48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cument UCRL-MI-13182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tivation #1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nguage interoperabil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72496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ed by Common Component Architecture (CC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oss-lab interoperability of DOE numerical 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E labs use many languages (f77, f90, C, C++, Java, Pyth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guage should not be a barrier to software re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3800" y="4343400"/>
            <a:ext cx="2907000" cy="703800"/>
          </a:xfrm>
          <a:prstGeom prst="rect">
            <a:avLst/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Simulation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(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52640" y="5638680"/>
            <a:ext cx="1890720" cy="7038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Solv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(C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2920" y="5638680"/>
            <a:ext cx="2570400" cy="703800"/>
          </a:xfrm>
          <a:prstGeom prst="rect">
            <a:avLst/>
          </a:prstGeom>
          <a:noFill/>
          <a:ln w="38160">
            <a:solidFill>
              <a:srgbClr val="006b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Numerical Rout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(f9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99640" y="3124080"/>
            <a:ext cx="2088720" cy="703800"/>
          </a:xfrm>
          <a:prstGeom prst="rect">
            <a:avLst/>
          </a:prstGeom>
          <a:noFill/>
          <a:ln w="38160">
            <a:solidFill>
              <a:srgbClr val="0c6d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Scripting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6d9c"/>
                </a:solidFill>
                <a:latin typeface="Arial"/>
              </a:rPr>
              <a:t>(Pyth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808960" y="4343400"/>
            <a:ext cx="2710440" cy="703800"/>
          </a:xfrm>
          <a:prstGeom prst="rect">
            <a:avLst/>
          </a:prstGeom>
          <a:noFill/>
          <a:ln w="38160">
            <a:solidFill>
              <a:srgbClr val="00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Visualization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(Jav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70" idx="2"/>
            <a:endCxn id="67" idx="0"/>
          </p:cNvCxnSpPr>
          <p:nvPr/>
        </p:nvCxnSpPr>
        <p:spPr>
          <a:xfrm flipH="1">
            <a:off x="2157120" y="3882960"/>
            <a:ext cx="2488320" cy="442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3" name=""/>
          <p:cNvCxnSpPr>
            <a:stCxn id="70" idx="2"/>
            <a:endCxn id="71" idx="0"/>
          </p:cNvCxnSpPr>
          <p:nvPr/>
        </p:nvCxnSpPr>
        <p:spPr>
          <a:xfrm>
            <a:off x="4645080" y="3882960"/>
            <a:ext cx="2520000" cy="442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4" name=""/>
          <p:cNvCxnSpPr>
            <a:stCxn id="67" idx="2"/>
            <a:endCxn id="69" idx="0"/>
          </p:cNvCxnSpPr>
          <p:nvPr/>
        </p:nvCxnSpPr>
        <p:spPr>
          <a:xfrm flipH="1">
            <a:off x="1607760" y="5101920"/>
            <a:ext cx="550080" cy="518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5" name=""/>
          <p:cNvCxnSpPr>
            <a:stCxn id="67" idx="2"/>
            <a:endCxn id="68" idx="0"/>
          </p:cNvCxnSpPr>
          <p:nvPr/>
        </p:nvCxnSpPr>
        <p:spPr>
          <a:xfrm>
            <a:off x="2157480" y="5101920"/>
            <a:ext cx="2542320" cy="518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tivation #2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ject support for non-object languag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71680" y="1523880"/>
            <a:ext cx="85723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52520" indent="-45252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nt object implementations in non-object langua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ct-oriented techniques useful for software archite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… many scientists are uncomfortable with C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.g., PETSc library implements object-oriented features in 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ts val="2798"/>
              </a:lnSpc>
              <a:spcBef>
                <a:spcPts val="25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 support is tedious and difficult if done by ha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heritance and polymorphism require function lookup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port infrastructure must be built into each new cla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ts val="2798"/>
              </a:lnSpc>
              <a:spcBef>
                <a:spcPts val="2500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L approach provides “automatic” object sup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L compiler automates generation of object “glue”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ymorphism, multiple inheritance, reference coun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7680" indent="-40176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spection, RTTI, simple exception mechan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57268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operability through language binding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64864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te custom bindings for each langu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bor-intensive to generate bindings for supported langu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tailor binding to style and conventions of langu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roach taken in the MPI standardization effo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3784680" y="5499000"/>
            <a:ext cx="1574640" cy="660600"/>
            <a:chOff x="3784680" y="5499000"/>
            <a:chExt cx="1574640" cy="660600"/>
          </a:xfrm>
        </p:grpSpPr>
        <p:sp>
          <p:nvSpPr>
            <p:cNvPr id="81" name=""/>
            <p:cNvSpPr/>
            <p:nvPr/>
          </p:nvSpPr>
          <p:spPr>
            <a:xfrm>
              <a:off x="3860640" y="5575320"/>
              <a:ext cx="1498680" cy="584280"/>
            </a:xfrm>
            <a:prstGeom prst="roundRect">
              <a:avLst>
                <a:gd name="adj" fmla="val 12495"/>
              </a:avLst>
            </a:prstGeom>
            <a:solidFill>
              <a:srgbClr val="ff0033"/>
            </a:solidFill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84680" y="5499000"/>
              <a:ext cx="1498680" cy="584280"/>
            </a:xfrm>
            <a:prstGeom prst="roundRect">
              <a:avLst>
                <a:gd name="adj" fmla="val 12495"/>
              </a:avLst>
            </a:prstGeom>
            <a:solidFill>
              <a:srgbClr val="ffffff"/>
            </a:solidFill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007160" y="5592600"/>
              <a:ext cx="1047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33"/>
                  </a:solidFill>
                  <a:latin typeface="Arial"/>
                </a:rPr>
                <a:t>Libra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108160" y="3213000"/>
            <a:ext cx="1270080" cy="507960"/>
            <a:chOff x="2108160" y="3213000"/>
            <a:chExt cx="1270080" cy="507960"/>
          </a:xfrm>
        </p:grpSpPr>
        <p:sp>
          <p:nvSpPr>
            <p:cNvPr id="85" name=""/>
            <p:cNvSpPr/>
            <p:nvPr/>
          </p:nvSpPr>
          <p:spPr>
            <a:xfrm>
              <a:off x="2184480" y="3289320"/>
              <a:ext cx="1193760" cy="431640"/>
            </a:xfrm>
            <a:prstGeom prst="roundRect">
              <a:avLst>
                <a:gd name="adj" fmla="val 12495"/>
              </a:avLst>
            </a:prstGeom>
            <a:solidFill>
              <a:srgbClr val="0c6d9c"/>
            </a:solidFill>
            <a:ln w="25560">
              <a:solidFill>
                <a:srgbClr val="0c6d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108160" y="3213000"/>
              <a:ext cx="1193760" cy="432000"/>
            </a:xfrm>
            <a:prstGeom prst="roundRect">
              <a:avLst>
                <a:gd name="adj" fmla="val 12495"/>
              </a:avLst>
            </a:prstGeom>
            <a:solidFill>
              <a:srgbClr val="ffffff"/>
            </a:solidFill>
            <a:ln w="25560">
              <a:solidFill>
                <a:srgbClr val="0c6d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166840" y="3230640"/>
              <a:ext cx="1076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c6d9c"/>
                  </a:solidFill>
                  <a:latin typeface="Arial"/>
                </a:rPr>
                <a:t>Fortra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1955880" y="4127400"/>
            <a:ext cx="1574640" cy="812880"/>
            <a:chOff x="1955880" y="4127400"/>
            <a:chExt cx="1574640" cy="812880"/>
          </a:xfrm>
        </p:grpSpPr>
        <p:sp>
          <p:nvSpPr>
            <p:cNvPr id="89" name=""/>
            <p:cNvSpPr/>
            <p:nvPr/>
          </p:nvSpPr>
          <p:spPr>
            <a:xfrm>
              <a:off x="2031840" y="4203720"/>
              <a:ext cx="1498680" cy="736560"/>
            </a:xfrm>
            <a:prstGeom prst="roundRect">
              <a:avLst>
                <a:gd name="adj" fmla="val 12495"/>
              </a:avLst>
            </a:prstGeom>
            <a:solidFill>
              <a:srgbClr val="006b61"/>
            </a:solidFill>
            <a:ln w="2556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55880" y="4127400"/>
              <a:ext cx="1498680" cy="736560"/>
            </a:xfrm>
            <a:prstGeom prst="roundRect">
              <a:avLst>
                <a:gd name="adj" fmla="val 12495"/>
              </a:avLst>
            </a:prstGeom>
            <a:solidFill>
              <a:srgbClr val="ffffff"/>
            </a:solidFill>
            <a:ln w="2556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069280" y="4145040"/>
              <a:ext cx="127332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b61"/>
                  </a:solidFill>
                  <a:latin typeface="Arial"/>
                </a:rPr>
                <a:t>Fortran</a:t>
              </a:r>
              <a:br>
                <a:rPr sz="2000"/>
              </a:br>
              <a:r>
                <a:rPr b="1" lang="en-US" sz="2000" spc="-1" strike="noStrike">
                  <a:solidFill>
                    <a:srgbClr val="006b61"/>
                  </a:solidFill>
                  <a:latin typeface="Arial"/>
                </a:rPr>
                <a:t>Binding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5765760" y="3213000"/>
            <a:ext cx="1270080" cy="507960"/>
            <a:chOff x="5765760" y="3213000"/>
            <a:chExt cx="1270080" cy="507960"/>
          </a:xfrm>
        </p:grpSpPr>
        <p:sp>
          <p:nvSpPr>
            <p:cNvPr id="93" name=""/>
            <p:cNvSpPr/>
            <p:nvPr/>
          </p:nvSpPr>
          <p:spPr>
            <a:xfrm>
              <a:off x="5842080" y="3289320"/>
              <a:ext cx="1193760" cy="431640"/>
            </a:xfrm>
            <a:prstGeom prst="roundRect">
              <a:avLst>
                <a:gd name="adj" fmla="val 12495"/>
              </a:avLst>
            </a:prstGeom>
            <a:solidFill>
              <a:srgbClr val="0c6d9c"/>
            </a:solidFill>
            <a:ln w="25560">
              <a:solidFill>
                <a:srgbClr val="0c6d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765760" y="3213000"/>
              <a:ext cx="1193760" cy="432000"/>
            </a:xfrm>
            <a:prstGeom prst="roundRect">
              <a:avLst>
                <a:gd name="adj" fmla="val 12495"/>
              </a:avLst>
            </a:prstGeom>
            <a:solidFill>
              <a:srgbClr val="ffffff"/>
            </a:solidFill>
            <a:ln w="25560">
              <a:solidFill>
                <a:srgbClr val="0c6d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028920" y="3230640"/>
              <a:ext cx="6681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c6d9c"/>
                  </a:solidFill>
                  <a:latin typeface="Arial"/>
                </a:rPr>
                <a:t>C+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3936960" y="3213000"/>
            <a:ext cx="1270080" cy="507960"/>
            <a:chOff x="3936960" y="3213000"/>
            <a:chExt cx="1270080" cy="507960"/>
          </a:xfrm>
        </p:grpSpPr>
        <p:sp>
          <p:nvSpPr>
            <p:cNvPr id="97" name=""/>
            <p:cNvSpPr/>
            <p:nvPr/>
          </p:nvSpPr>
          <p:spPr>
            <a:xfrm>
              <a:off x="4013280" y="3289320"/>
              <a:ext cx="1193760" cy="431640"/>
            </a:xfrm>
            <a:prstGeom prst="roundRect">
              <a:avLst>
                <a:gd name="adj" fmla="val 12495"/>
              </a:avLst>
            </a:prstGeom>
            <a:solidFill>
              <a:srgbClr val="0c6d9c"/>
            </a:solidFill>
            <a:ln w="25560">
              <a:solidFill>
                <a:srgbClr val="0c6d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936960" y="3213000"/>
              <a:ext cx="1193760" cy="432000"/>
            </a:xfrm>
            <a:prstGeom prst="roundRect">
              <a:avLst>
                <a:gd name="adj" fmla="val 12495"/>
              </a:avLst>
            </a:prstGeom>
            <a:solidFill>
              <a:srgbClr val="ffffff"/>
            </a:solidFill>
            <a:ln w="25560">
              <a:solidFill>
                <a:srgbClr val="0c6d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349520" y="3230640"/>
              <a:ext cx="369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c6d9c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3784680" y="4127400"/>
            <a:ext cx="1574640" cy="812880"/>
            <a:chOff x="3784680" y="4127400"/>
            <a:chExt cx="1574640" cy="812880"/>
          </a:xfrm>
        </p:grpSpPr>
        <p:sp>
          <p:nvSpPr>
            <p:cNvPr id="101" name=""/>
            <p:cNvSpPr/>
            <p:nvPr/>
          </p:nvSpPr>
          <p:spPr>
            <a:xfrm>
              <a:off x="3860640" y="4203720"/>
              <a:ext cx="1498680" cy="736560"/>
            </a:xfrm>
            <a:prstGeom prst="roundRect">
              <a:avLst>
                <a:gd name="adj" fmla="val 12495"/>
              </a:avLst>
            </a:prstGeom>
            <a:solidFill>
              <a:srgbClr val="006b61"/>
            </a:solidFill>
            <a:ln w="2556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784680" y="4127400"/>
              <a:ext cx="1498680" cy="736560"/>
            </a:xfrm>
            <a:prstGeom prst="roundRect">
              <a:avLst>
                <a:gd name="adj" fmla="val 12495"/>
              </a:avLst>
            </a:prstGeom>
            <a:solidFill>
              <a:srgbClr val="ffffff"/>
            </a:solidFill>
            <a:ln w="2556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98080" y="4145040"/>
              <a:ext cx="127332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b61"/>
                  </a:solidFill>
                  <a:latin typeface="Arial"/>
                </a:rPr>
                <a:t>C</a:t>
              </a:r>
              <a:br>
                <a:rPr sz="2000"/>
              </a:br>
              <a:r>
                <a:rPr b="1" lang="en-US" sz="2000" spc="-1" strike="noStrike">
                  <a:solidFill>
                    <a:srgbClr val="006b61"/>
                  </a:solidFill>
                  <a:latin typeface="Arial"/>
                </a:rPr>
                <a:t>Binding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5613480" y="4127400"/>
            <a:ext cx="1574640" cy="812880"/>
            <a:chOff x="5613480" y="4127400"/>
            <a:chExt cx="1574640" cy="812880"/>
          </a:xfrm>
        </p:grpSpPr>
        <p:sp>
          <p:nvSpPr>
            <p:cNvPr id="105" name=""/>
            <p:cNvSpPr/>
            <p:nvPr/>
          </p:nvSpPr>
          <p:spPr>
            <a:xfrm>
              <a:off x="5689440" y="4203720"/>
              <a:ext cx="1498680" cy="736560"/>
            </a:xfrm>
            <a:prstGeom prst="roundRect">
              <a:avLst>
                <a:gd name="adj" fmla="val 12495"/>
              </a:avLst>
            </a:prstGeom>
            <a:solidFill>
              <a:srgbClr val="006b61"/>
            </a:solidFill>
            <a:ln w="2556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613480" y="4127400"/>
              <a:ext cx="1498680" cy="736560"/>
            </a:xfrm>
            <a:prstGeom prst="roundRect">
              <a:avLst>
                <a:gd name="adj" fmla="val 12495"/>
              </a:avLst>
            </a:prstGeom>
            <a:solidFill>
              <a:srgbClr val="ffffff"/>
            </a:solidFill>
            <a:ln w="2556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726880" y="4145040"/>
              <a:ext cx="127332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b61"/>
                  </a:solidFill>
                  <a:latin typeface="Arial"/>
                </a:rPr>
                <a:t>C++</a:t>
              </a:r>
              <a:br>
                <a:rPr sz="2000"/>
              </a:br>
              <a:r>
                <a:rPr b="1" lang="en-US" sz="2000" spc="-1" strike="noStrike">
                  <a:solidFill>
                    <a:srgbClr val="006b61"/>
                  </a:solidFill>
                  <a:latin typeface="Arial"/>
                </a:rPr>
                <a:t>Binding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4572000" y="37339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43200" y="37339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37339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4572000" y="4952880"/>
            <a:ext cx="182880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495288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2743200" y="4952880"/>
            <a:ext cx="182880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19320" y="3886200"/>
            <a:ext cx="6705360" cy="2514600"/>
          </a:xfrm>
          <a:prstGeom prst="roundRect">
            <a:avLst>
              <a:gd name="adj" fmla="val 16667"/>
            </a:avLst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95280" y="5181480"/>
            <a:ext cx="190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livered with the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operability through custom solu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724960" cy="156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iques that target small collections of langua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eign call interfaces or automatic glue code gener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.g., SWIG wraps C and C++ for calls from scripting langu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 very general - limited only to subsets of langu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391520" y="3657600"/>
            <a:ext cx="945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Arial"/>
              </a:rPr>
              <a:t>J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N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SWI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14440" y="41911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057400" y="5168880"/>
            <a:ext cx="66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17120" y="327672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7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477840" y="419112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325920" y="5168880"/>
            <a:ext cx="10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217040" y="609588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0" idx="0"/>
            <a:endCxn id="119" idx="2"/>
          </p:cNvCxnSpPr>
          <p:nvPr/>
        </p:nvCxnSpPr>
        <p:spPr>
          <a:xfrm flipV="1">
            <a:off x="2388960" y="4587840"/>
            <a:ext cx="108360" cy="581400"/>
          </a:xfrm>
          <a:prstGeom prst="straightConnector1">
            <a:avLst/>
          </a:prstGeom>
          <a:ln w="28440">
            <a:solidFill>
              <a:srgbClr val="006b61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20" idx="2"/>
            <a:endCxn id="124" idx="0"/>
          </p:cNvCxnSpPr>
          <p:nvPr/>
        </p:nvCxnSpPr>
        <p:spPr>
          <a:xfrm>
            <a:off x="2389320" y="5565240"/>
            <a:ext cx="2202480" cy="531000"/>
          </a:xfrm>
          <a:prstGeom prst="straightConnector1">
            <a:avLst/>
          </a:prstGeom>
          <a:ln w="28440">
            <a:solidFill>
              <a:srgbClr val="0066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7" name=""/>
          <p:cNvCxnSpPr>
            <a:stCxn id="120" idx="3"/>
            <a:endCxn id="123" idx="1"/>
          </p:cNvCxnSpPr>
          <p:nvPr/>
        </p:nvCxnSpPr>
        <p:spPr>
          <a:xfrm>
            <a:off x="2720880" y="5366880"/>
            <a:ext cx="3604320" cy="1080"/>
          </a:xfrm>
          <a:prstGeom prst="straightConnector1">
            <a:avLst/>
          </a:prstGeom>
          <a:ln w="28440">
            <a:solidFill>
              <a:srgbClr val="800080"/>
            </a:solidFill>
            <a:miter/>
            <a:headEnd len="med" type="triangle" w="med"/>
          </a:ln>
        </p:spPr>
      </p:cxnSp>
      <p:cxnSp>
        <p:nvCxnSpPr>
          <p:cNvPr id="128" name=""/>
          <p:cNvCxnSpPr>
            <a:stCxn id="119" idx="0"/>
            <a:endCxn id="121" idx="1"/>
          </p:cNvCxnSpPr>
          <p:nvPr/>
        </p:nvCxnSpPr>
        <p:spPr>
          <a:xfrm flipV="1">
            <a:off x="2496960" y="3474360"/>
            <a:ext cx="1820160" cy="716760"/>
          </a:xfrm>
          <a:prstGeom prst="straightConnector1">
            <a:avLst/>
          </a:prstGeom>
          <a:ln w="28440">
            <a:solidFill>
              <a:srgbClr val="006b61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22" idx="0"/>
            <a:endCxn id="121" idx="3"/>
          </p:cNvCxnSpPr>
          <p:nvPr/>
        </p:nvCxnSpPr>
        <p:spPr>
          <a:xfrm flipH="1" flipV="1">
            <a:off x="4866480" y="3474360"/>
            <a:ext cx="1886760" cy="716760"/>
          </a:xfrm>
          <a:prstGeom prst="straightConnector1">
            <a:avLst/>
          </a:prstGeom>
          <a:ln w="28440">
            <a:solidFill>
              <a:srgbClr val="006b61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24" idx="0"/>
            <a:endCxn id="119" idx="3"/>
          </p:cNvCxnSpPr>
          <p:nvPr/>
        </p:nvCxnSpPr>
        <p:spPr>
          <a:xfrm flipH="1" flipV="1">
            <a:off x="2680560" y="4389120"/>
            <a:ext cx="1910520" cy="1707120"/>
          </a:xfrm>
          <a:prstGeom prst="straightConnector1">
            <a:avLst/>
          </a:prstGeom>
          <a:ln w="28440">
            <a:solidFill>
              <a:srgbClr val="0066cc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1" name=""/>
          <p:cNvCxnSpPr>
            <a:stCxn id="123" idx="1"/>
            <a:endCxn id="119" idx="3"/>
          </p:cNvCxnSpPr>
          <p:nvPr/>
        </p:nvCxnSpPr>
        <p:spPr>
          <a:xfrm flipH="1" flipV="1">
            <a:off x="2680920" y="4389120"/>
            <a:ext cx="3643920" cy="978480"/>
          </a:xfrm>
          <a:prstGeom prst="straightConnector1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0" idx="0"/>
            <a:endCxn id="121" idx="2"/>
          </p:cNvCxnSpPr>
          <p:nvPr/>
        </p:nvCxnSpPr>
        <p:spPr>
          <a:xfrm flipV="1">
            <a:off x="2389320" y="3673080"/>
            <a:ext cx="2203920" cy="1496160"/>
          </a:xfrm>
          <a:prstGeom prst="straightConnector1">
            <a:avLst/>
          </a:prstGeom>
          <a:ln w="28440">
            <a:solidFill>
              <a:srgbClr val="006b61"/>
            </a:solidFill>
            <a:miter/>
            <a:tailEnd len="med" type="triangle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038480" y="4267080"/>
            <a:ext cx="914400" cy="9144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operability through an ID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19040" y="1485720"/>
            <a:ext cx="8724960" cy="156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cribe objects in an “interface definition language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language interoperates with the “IDL language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L compiler generates “glue” that wraps compon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:  CORBA, DCOM, ILU, RPC, microkernel O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0120" y="40766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981080" y="5016600"/>
            <a:ext cx="66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240800" y="312408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7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496920" y="407664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249960" y="5016600"/>
            <a:ext cx="10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41080" y="59436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200480" y="4525920"/>
            <a:ext cx="5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Arial"/>
              </a:rPr>
              <a:t>I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90920" y="4267080"/>
            <a:ext cx="1447560" cy="381240"/>
          </a:xfrm>
          <a:prstGeom prst="line">
            <a:avLst/>
          </a:prstGeom>
          <a:ln w="28440">
            <a:solidFill>
              <a:srgbClr val="0c6d9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495680" y="3505320"/>
            <a:ext cx="0" cy="761760"/>
          </a:xfrm>
          <a:prstGeom prst="line">
            <a:avLst/>
          </a:prstGeom>
          <a:ln w="28440">
            <a:solidFill>
              <a:srgbClr val="0c6d9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4952880" y="4266720"/>
            <a:ext cx="1600200" cy="381240"/>
          </a:xfrm>
          <a:prstGeom prst="line">
            <a:avLst/>
          </a:prstGeom>
          <a:ln w="28440">
            <a:solidFill>
              <a:srgbClr val="0c6d9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952880" y="4876920"/>
            <a:ext cx="1371600" cy="380880"/>
          </a:xfrm>
          <a:prstGeom prst="line">
            <a:avLst/>
          </a:prstGeom>
          <a:ln w="28440">
            <a:solidFill>
              <a:srgbClr val="0c6d9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2666880" y="4876920"/>
            <a:ext cx="1371600" cy="380880"/>
          </a:xfrm>
          <a:prstGeom prst="line">
            <a:avLst/>
          </a:prstGeom>
          <a:ln w="28440">
            <a:solidFill>
              <a:srgbClr val="0c6d9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08640" y="5181480"/>
            <a:ext cx="0" cy="838440"/>
          </a:xfrm>
          <a:prstGeom prst="line">
            <a:avLst/>
          </a:prstGeom>
          <a:ln w="28440">
            <a:solidFill>
              <a:srgbClr val="0c6d9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DL: Interface Definition Langua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18680" y="1486080"/>
            <a:ext cx="8318520" cy="125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ts val="2798"/>
              </a:lnSpc>
              <a:spcBef>
                <a:spcPts val="601"/>
              </a:spcBef>
              <a:buClr>
                <a:srgbClr val="0c7b9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larative interface description langu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bes interface only (no implementation detail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406080">
              <a:lnSpc>
                <a:spcPts val="2798"/>
              </a:lnSpc>
              <a:buClr>
                <a:srgbClr val="0c7b9c"/>
              </a:buClr>
              <a:buFont typeface="Arial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guage-independent way to describe object AP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97400" y="2743200"/>
            <a:ext cx="5671440" cy="374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</a:t>
            </a:r>
            <a:r>
              <a:rPr b="1" lang="en-US" sz="1600" spc="-1" strike="noStrike">
                <a:solidFill>
                  <a:srgbClr val="006b61"/>
                </a:solidFill>
                <a:latin typeface="Courier New"/>
              </a:rPr>
              <a:t>Solve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lon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uble dot(in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y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axpy(in double a, in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y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US" sz="1600" spc="-1" strike="noStrike">
                <a:solidFill>
                  <a:srgbClr val="800080"/>
                </a:solidFill>
                <a:latin typeface="Courier New"/>
              </a:rPr>
              <a:t>Matrix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apply(out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x, in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US" sz="1600" spc="-1" strike="noStrike">
                <a:solidFill>
                  <a:srgbClr val="ff0033"/>
                </a:solidFill>
                <a:latin typeface="Courier New"/>
              </a:rPr>
              <a:t>SparseMatrix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mplements </a:t>
            </a:r>
            <a:r>
              <a:rPr b="1" lang="en-US" sz="1600" spc="-1" strike="noStrike">
                <a:solidFill>
                  <a:srgbClr val="800080"/>
                </a:solidFill>
                <a:latin typeface="Courier New"/>
              </a:rPr>
              <a:t>Matrix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apply(out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x, in </a:t>
            </a:r>
            <a:r>
              <a:rPr b="1" lang="en-US" sz="1600" spc="-1" strike="noStrike">
                <a:solidFill>
                  <a:srgbClr val="0c6d9c"/>
                </a:solidFill>
                <a:latin typeface="Courier New"/>
              </a:rPr>
              <a:t>Vect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18680" y="298440"/>
            <a:ext cx="82803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iler generates “glue” code from ID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858600" y="1555920"/>
            <a:ext cx="7908840" cy="5015160"/>
            <a:chOff x="858600" y="1555920"/>
            <a:chExt cx="7908840" cy="5015160"/>
          </a:xfrm>
        </p:grpSpPr>
        <p:sp>
          <p:nvSpPr>
            <p:cNvPr id="154" name=""/>
            <p:cNvSpPr/>
            <p:nvPr/>
          </p:nvSpPr>
          <p:spPr>
            <a:xfrm>
              <a:off x="3677400" y="3657600"/>
              <a:ext cx="1931760" cy="398880"/>
            </a:xfrm>
            <a:prstGeom prst="rect">
              <a:avLst/>
            </a:prstGeom>
            <a:noFill/>
            <a:ln w="284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80"/>
                  </a:solidFill>
                  <a:latin typeface="Arial"/>
                </a:rPr>
                <a:t>SIDL Compil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633840" y="1555920"/>
              <a:ext cx="2006280" cy="703800"/>
            </a:xfrm>
            <a:prstGeom prst="rect">
              <a:avLst/>
            </a:prstGeom>
            <a:noFill/>
            <a:ln w="284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66cc"/>
                  </a:solidFill>
                  <a:latin typeface="Arial"/>
                </a:rPr>
                <a:t>hypre</a:t>
              </a:r>
              <a:r>
                <a:rPr b="1" lang="en-US" sz="2000" spc="-1" strike="noStrike">
                  <a:solidFill>
                    <a:srgbClr val="0066cc"/>
                  </a:solidFill>
                  <a:latin typeface="Arial"/>
                </a:rPr>
                <a:t> Interface</a:t>
              </a:r>
              <a:br>
                <a:rPr sz="2000"/>
              </a:br>
              <a:r>
                <a:rPr b="1" lang="en-US" sz="2000" spc="-1" strike="noStrike">
                  <a:solidFill>
                    <a:srgbClr val="0066cc"/>
                  </a:solidFill>
                  <a:latin typeface="Arial"/>
                </a:rPr>
                <a:t>Descrip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700720" y="5486400"/>
              <a:ext cx="1453320" cy="703800"/>
            </a:xfrm>
            <a:prstGeom prst="rect">
              <a:avLst/>
            </a:prstGeom>
            <a:noFill/>
            <a:ln w="2844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b61"/>
                  </a:solidFill>
                  <a:latin typeface="Arial"/>
                </a:rPr>
                <a:t>Stu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b61"/>
                  </a:solidFill>
                  <a:latin typeface="Arial"/>
                </a:rPr>
                <a:t>Glue 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986720" y="5486400"/>
              <a:ext cx="1453320" cy="703800"/>
            </a:xfrm>
            <a:prstGeom prst="rect">
              <a:avLst/>
            </a:prstGeom>
            <a:noFill/>
            <a:ln w="28440">
              <a:solidFill>
                <a:srgbClr val="0c6d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c6d9c"/>
                  </a:solidFill>
                  <a:latin typeface="Arial"/>
                </a:rPr>
                <a:t>Skelet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c6d9c"/>
                  </a:solidFill>
                  <a:latin typeface="Arial"/>
                </a:rPr>
                <a:t>Glue 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163160" y="3505320"/>
              <a:ext cx="1383120" cy="703800"/>
            </a:xfrm>
            <a:prstGeom prst="rect">
              <a:avLst/>
            </a:prstGeom>
            <a:noFill/>
            <a:ln w="28440">
              <a:solidFill>
                <a:srgbClr val="006b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b61"/>
                  </a:solidFill>
                  <a:latin typeface="Arial"/>
                </a:rPr>
                <a:t>Caller</a:t>
              </a:r>
              <a:br>
                <a:rPr sz="2000"/>
              </a:br>
              <a:r>
                <a:rPr b="1" lang="en-US" sz="2000" spc="-1" strike="noStrike">
                  <a:solidFill>
                    <a:srgbClr val="006b61"/>
                  </a:solidFill>
                  <a:latin typeface="Arial"/>
                </a:rPr>
                <a:t>Langu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553080" y="3505320"/>
              <a:ext cx="2057400" cy="703800"/>
            </a:xfrm>
            <a:prstGeom prst="rect">
              <a:avLst/>
            </a:prstGeom>
            <a:noFill/>
            <a:ln w="28440">
              <a:solidFill>
                <a:srgbClr val="0c6d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c6d9c"/>
                  </a:solidFill>
                  <a:latin typeface="Arial"/>
                </a:rPr>
                <a:t>hypre </a:t>
              </a:r>
              <a:r>
                <a:rPr b="1" lang="en-US" sz="2000" spc="-1" strike="noStrike">
                  <a:solidFill>
                    <a:srgbClr val="0c6d9c"/>
                  </a:solidFill>
                  <a:latin typeface="Arial"/>
                </a:rPr>
                <a:t>Library</a:t>
              </a:r>
              <a:br>
                <a:rPr sz="2000"/>
              </a:br>
              <a:r>
                <a:rPr b="1" lang="en-US" sz="2000" spc="-1" strike="noStrike">
                  <a:solidFill>
                    <a:srgbClr val="0c6d9c"/>
                  </a:solidFill>
                  <a:latin typeface="Arial"/>
                </a:rPr>
                <a:t>Langu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0" name=""/>
            <p:cNvCxnSpPr>
              <a:stCxn id="158" idx="3"/>
              <a:endCxn id="154" idx="1"/>
            </p:cNvCxnSpPr>
            <p:nvPr/>
          </p:nvCxnSpPr>
          <p:spPr>
            <a:xfrm>
              <a:off x="2576160" y="3870000"/>
              <a:ext cx="107244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4" idx="3"/>
              <a:endCxn id="159" idx="1"/>
            </p:cNvCxnSpPr>
            <p:nvPr/>
          </p:nvCxnSpPr>
          <p:spPr>
            <a:xfrm>
              <a:off x="5638320" y="3870000"/>
              <a:ext cx="90108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162" name=""/>
            <p:cNvCxnSpPr>
              <a:stCxn id="155" idx="2"/>
              <a:endCxn id="154" idx="0"/>
            </p:cNvCxnSpPr>
            <p:nvPr/>
          </p:nvCxnSpPr>
          <p:spPr>
            <a:xfrm>
              <a:off x="4636800" y="2300400"/>
              <a:ext cx="6840" cy="1343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3" name=""/>
            <p:cNvCxnSpPr>
              <a:stCxn id="154" idx="2"/>
              <a:endCxn id="156" idx="0"/>
            </p:cNvCxnSpPr>
            <p:nvPr/>
          </p:nvCxnSpPr>
          <p:spPr>
            <a:xfrm flipH="1">
              <a:off x="3426840" y="4096800"/>
              <a:ext cx="1216440" cy="1375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4" name=""/>
            <p:cNvCxnSpPr>
              <a:stCxn id="154" idx="2"/>
              <a:endCxn id="157" idx="0"/>
            </p:cNvCxnSpPr>
            <p:nvPr/>
          </p:nvCxnSpPr>
          <p:spPr>
            <a:xfrm>
              <a:off x="4642920" y="4096800"/>
              <a:ext cx="1071000" cy="1375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5" name=""/>
            <p:cNvCxnSpPr>
              <a:stCxn id="154" idx="0"/>
              <a:endCxn id="166" idx="3"/>
            </p:cNvCxnSpPr>
            <p:nvPr/>
          </p:nvCxnSpPr>
          <p:spPr>
            <a:xfrm flipV="1">
              <a:off x="4643280" y="2985480"/>
              <a:ext cx="2912400" cy="657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</p:cxnSp>
        <p:grpSp>
          <p:nvGrpSpPr>
            <p:cNvPr id="167" name=""/>
            <p:cNvGrpSpPr/>
            <p:nvPr/>
          </p:nvGrpSpPr>
          <p:grpSpPr>
            <a:xfrm>
              <a:off x="6340320" y="1600200"/>
              <a:ext cx="2427120" cy="1371600"/>
              <a:chOff x="6340320" y="1600200"/>
              <a:chExt cx="2427120" cy="1371600"/>
            </a:xfrm>
          </p:grpSpPr>
          <p:sp>
            <p:nvSpPr>
              <p:cNvPr id="166" name=""/>
              <p:cNvSpPr/>
              <p:nvPr/>
            </p:nvSpPr>
            <p:spPr>
              <a:xfrm>
                <a:off x="6340320" y="1600200"/>
                <a:ext cx="2427120" cy="1371600"/>
              </a:xfrm>
              <a:prstGeom prst="flowChartMagneticDisk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356160" y="2158920"/>
                <a:ext cx="2393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868686"/>
                    </a:solidFill>
                    <a:latin typeface="Arial"/>
                  </a:rPr>
                  <a:t>Language Mappings</a:t>
                </a:r>
                <a:br>
                  <a:rPr sz="1800"/>
                </a:br>
                <a:r>
                  <a:rPr b="1" lang="en-US" sz="1800" spc="-1" strike="noStrike">
                    <a:solidFill>
                      <a:srgbClr val="868686"/>
                    </a:solidFill>
                    <a:latin typeface="Arial"/>
                  </a:rPr>
                  <a:t>Compiler Detail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655680" y="1600200"/>
                <a:ext cx="179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68686"/>
                    </a:solidFill>
                    <a:latin typeface="Arial"/>
                  </a:rPr>
                  <a:t>IDL Databas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858600" y="5867280"/>
              <a:ext cx="1566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b61"/>
                  </a:solidFill>
                  <a:latin typeface="Arial"/>
                </a:rPr>
                <a:t>called by</a:t>
              </a:r>
              <a:br>
                <a:rPr sz="2000"/>
              </a:br>
              <a:r>
                <a:rPr b="1" lang="en-US" sz="2000" spc="-1" strike="noStrike">
                  <a:solidFill>
                    <a:srgbClr val="006b61"/>
                  </a:solidFill>
                  <a:latin typeface="Arial"/>
                </a:rPr>
                <a:t>library us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656040" y="5867280"/>
              <a:ext cx="2059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c6d9c"/>
                  </a:solidFill>
                  <a:latin typeface="Arial"/>
                </a:rPr>
                <a:t>wraps library</a:t>
              </a:r>
              <a:br>
                <a:rPr sz="2000"/>
              </a:br>
              <a:r>
                <a:rPr b="1" lang="en-US" sz="2000" spc="-1" strike="noStrike">
                  <a:solidFill>
                    <a:srgbClr val="0c6d9c"/>
                  </a:solidFill>
                  <a:latin typeface="Arial"/>
                </a:rPr>
                <a:t>implement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2209680" y="6019560"/>
              <a:ext cx="39240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477120" y="6019920"/>
              <a:ext cx="3124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514600" y="4267080"/>
              <a:ext cx="782640" cy="121932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90920" y="4191120"/>
              <a:ext cx="2427120" cy="12952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191120" y="5715000"/>
              <a:ext cx="782640" cy="144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6400800" y="4266720"/>
              <a:ext cx="782640" cy="121932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6T09:34:19Z</dcterms:created>
  <dc:creator>Scott Kohn</dc:creator>
  <dc:description/>
  <dc:language>en-US</dc:language>
  <cp:lastModifiedBy>SoftWindows</cp:lastModifiedBy>
  <cp:lastPrinted>1998-10-27T15:54:28Z</cp:lastPrinted>
  <dcterms:modified xsi:type="dcterms:W3CDTF">1999-05-12T22:18:50Z</dcterms:modified>
  <cp:revision>72</cp:revision>
  <dc:subject>CCA Interoperability and the CORBA IDL</dc:subject>
  <dc:title>CCA Interoperability</dc:title>
</cp:coreProperties>
</file>