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0" y="8818560"/>
            <a:ext cx="302904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962160" y="8818560"/>
            <a:ext cx="3028680" cy="4636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047EBAC-996D-4FAE-BB2A-23785C4B1B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959280" y="-1440"/>
            <a:ext cx="3031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59280" y="8815320"/>
            <a:ext cx="3031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-1440" y="8815320"/>
            <a:ext cx="3030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20960" cy="34657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0240" y="4406760"/>
            <a:ext cx="5127840" cy="41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F30-CAC2-4BFA-8ECE-055AF029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20A1-FF63-4A21-92AC-51A499D0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761-7C00-4E82-B39A-000D98E8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F1D3-9E09-4AE8-90FC-B1BBE7FC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9CC-77F3-41AB-B4BA-677EBDF5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764D-A715-4233-AF0F-2DE4BFED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B4C-72FE-4C70-9E77-4B706C8E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07E4-3FA5-47A2-B43D-50AACBC3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AEB-59AC-4B09-ABFB-B3DAC053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A9E9-B315-437D-8ED4-CD97EDB9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34B-EB89-4FEC-8336-A0DA3C5F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E578-B964-4784-82AC-51E4EC88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629040"/>
            <a:ext cx="5335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A73A-3F6A-4E1C-84DD-803B2344C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33360" y="2654280"/>
            <a:ext cx="8524800" cy="397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798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m Epperly and Gary Kumfert</a:t>
            </a:r>
            <a:br>
              <a:rPr sz="2400"/>
            </a:br>
            <a:br>
              <a:rPr sz="28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3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11430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for High-Performance Scientific Simulation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53920"/>
            <a:ext cx="8076960" cy="152280"/>
            <a:chOff x="533520" y="85392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5392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6804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04720" y="2422440"/>
            <a:ext cx="8076960" cy="152640"/>
            <a:chOff x="504720" y="242244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04720" y="242244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720" y="253692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825-E816-416F-98B5-8DF57C16C50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A is investigating high-performance component technology for the DO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omponent Architecture (CCA) for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workshops and meetings since January, 199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L, LANL, LBNL, LLNL, ORNL, SNL, Indiana, and Uta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z.ca.sandia.gov/~cca-foru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interoperability for high-performance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massively parallel SPMD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 industry approaches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specifications and reference 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 developed by CCA participa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develop a joint reference implementation by FY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4A6E-8F2C-4496-9680-337D303A2D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CA is researching a variety of component issues in scientific compu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 between components via po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tandard component repository formats and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sition GU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anguage interoperability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component lo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Parallel data redistribution between SPM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interface standards (e.g., solvers, meshes, …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t low-level parallel communication libr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9DB2-D03C-4046-860B-96F276BB70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75AC-0D72-413F-B9E9-A7012636B8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focus is on tightly-coupled same-address space c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7" idx="2"/>
            <a:endCxn id="144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2"/>
            <a:endCxn id="148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1" name=""/>
          <p:cNvCxnSpPr>
            <a:stCxn id="144" idx="2"/>
            <a:endCxn id="146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2" name=""/>
          <p:cNvCxnSpPr>
            <a:stCxn id="144" idx="2"/>
            <a:endCxn id="145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0A6D-1A09-4C2E-90A2-533E29DA95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PETSc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mplement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, RTTI,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D738-08FB-4BB1-8579-5AE68BBC51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1904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re are many tradeoffs when choosing a language interoperability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040" y="1486080"/>
            <a:ext cx="872496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 generation, wrapper tools (e.g., SWIG), ID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chose the IDL approach to languag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any language can call and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nent tools need a common interface descrip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fficient information for automatic generation of distributed cal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926240" y="4240080"/>
            <a:ext cx="3420000" cy="2055240"/>
            <a:chOff x="4926240" y="4240080"/>
            <a:chExt cx="3420000" cy="2055240"/>
          </a:xfrm>
        </p:grpSpPr>
        <p:sp>
          <p:nvSpPr>
            <p:cNvPr id="158" name=""/>
            <p:cNvSpPr/>
            <p:nvPr/>
          </p:nvSpPr>
          <p:spPr>
            <a:xfrm>
              <a:off x="6264360" y="4957920"/>
              <a:ext cx="519120" cy="519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6040" y="4773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26240" y="5459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5600" y="424008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57200" y="477360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479720" y="55357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17920" y="595800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48520" y="5029200"/>
              <a:ext cx="60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Arial"/>
                </a:rPr>
                <a:t>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42120" y="4957920"/>
              <a:ext cx="82224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23200" y="4524480"/>
              <a:ext cx="0" cy="4334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783480" y="4957560"/>
              <a:ext cx="907920" cy="21564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83480" y="5303880"/>
              <a:ext cx="77796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484960" y="5303880"/>
              <a:ext cx="779400" cy="21600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5477040"/>
              <a:ext cx="0" cy="474480"/>
            </a:xfrm>
            <a:prstGeom prst="line">
              <a:avLst/>
            </a:prstGeom>
            <a:ln w="28440">
              <a:solidFill>
                <a:srgbClr val="0c6d9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87240" y="4280040"/>
            <a:ext cx="3638880" cy="1937160"/>
            <a:chOff x="687240" y="4280040"/>
            <a:chExt cx="3638880" cy="1937160"/>
          </a:xfrm>
        </p:grpSpPr>
        <p:sp>
          <p:nvSpPr>
            <p:cNvPr id="173" name=""/>
            <p:cNvSpPr/>
            <p:nvPr/>
          </p:nvSpPr>
          <p:spPr>
            <a:xfrm>
              <a:off x="3537360" y="4533480"/>
              <a:ext cx="788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cc"/>
                  </a:solidFill>
                  <a:latin typeface="Arial"/>
                </a:rPr>
                <a:t>J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b61"/>
                  </a:solidFill>
                  <a:latin typeface="Arial"/>
                </a:rPr>
                <a:t>Nat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WI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5480" y="46605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7240" y="5346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82880" y="42800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5880" y="4812840"/>
              <a:ext cx="47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61000" y="5330520"/>
              <a:ext cx="8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yth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82520" y="5879880"/>
              <a:ext cx="63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0" name=""/>
            <p:cNvCxnSpPr>
              <a:stCxn id="175" idx="0"/>
              <a:endCxn id="174" idx="2"/>
            </p:cNvCxnSpPr>
            <p:nvPr/>
          </p:nvCxnSpPr>
          <p:spPr>
            <a:xfrm flipV="1">
              <a:off x="969480" y="4996440"/>
              <a:ext cx="109800" cy="34956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75" idx="2"/>
              <a:endCxn id="179" idx="0"/>
            </p:cNvCxnSpPr>
            <p:nvPr/>
          </p:nvCxnSpPr>
          <p:spPr>
            <a:xfrm>
              <a:off x="969840" y="5682960"/>
              <a:ext cx="1329120" cy="19728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2" name=""/>
            <p:cNvCxnSpPr>
              <a:stCxn id="175" idx="3"/>
              <a:endCxn id="178" idx="1"/>
            </p:cNvCxnSpPr>
            <p:nvPr/>
          </p:nvCxnSpPr>
          <p:spPr>
            <a:xfrm flipV="1">
              <a:off x="1253520" y="5498280"/>
              <a:ext cx="1705320" cy="1584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headEnd len="med" type="triangle" w="med"/>
            </a:ln>
          </p:spPr>
        </p:cxnSp>
        <p:cxnSp>
          <p:nvCxnSpPr>
            <p:cNvPr id="183" name=""/>
            <p:cNvCxnSpPr>
              <a:stCxn id="174" idx="0"/>
              <a:endCxn id="176" idx="1"/>
            </p:cNvCxnSpPr>
            <p:nvPr/>
          </p:nvCxnSpPr>
          <p:spPr>
            <a:xfrm flipV="1">
              <a:off x="1079280" y="4447440"/>
              <a:ext cx="902160" cy="21312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>
              <a:stCxn id="177" idx="0"/>
              <a:endCxn id="176" idx="3"/>
            </p:cNvCxnSpPr>
            <p:nvPr/>
          </p:nvCxnSpPr>
          <p:spPr>
            <a:xfrm flipH="1" flipV="1">
              <a:off x="2458080" y="4447440"/>
              <a:ext cx="905400" cy="36504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  <p:cxnSp>
          <p:nvCxnSpPr>
            <p:cNvPr id="185" name=""/>
            <p:cNvCxnSpPr>
              <a:stCxn id="179" idx="0"/>
              <a:endCxn id="174" idx="3"/>
            </p:cNvCxnSpPr>
            <p:nvPr/>
          </p:nvCxnSpPr>
          <p:spPr>
            <a:xfrm flipH="1" flipV="1">
              <a:off x="1243800" y="4827960"/>
              <a:ext cx="1054440" cy="1051560"/>
            </a:xfrm>
            <a:prstGeom prst="straightConnector1">
              <a:avLst/>
            </a:prstGeom>
            <a:ln w="28440">
              <a:solidFill>
                <a:srgbClr val="0066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86" name=""/>
            <p:cNvCxnSpPr>
              <a:stCxn id="178" idx="1"/>
              <a:endCxn id="174" idx="3"/>
            </p:cNvCxnSpPr>
            <p:nvPr/>
          </p:nvCxnSpPr>
          <p:spPr>
            <a:xfrm flipH="1" flipV="1">
              <a:off x="1243800" y="4828320"/>
              <a:ext cx="1714680" cy="6703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>
              <a:stCxn id="175" idx="0"/>
              <a:endCxn id="176" idx="2"/>
            </p:cNvCxnSpPr>
            <p:nvPr/>
          </p:nvCxnSpPr>
          <p:spPr>
            <a:xfrm flipV="1">
              <a:off x="969840" y="4615920"/>
              <a:ext cx="1251360" cy="730080"/>
            </a:xfrm>
            <a:prstGeom prst="straightConnector1">
              <a:avLst/>
            </a:prstGeom>
            <a:ln w="28440">
              <a:solidFill>
                <a:srgbClr val="006b61"/>
              </a:solidFill>
              <a:miter/>
              <a:tailEnd len="med" type="triangle" w="med"/>
            </a:ln>
          </p:spPr>
        </p:cxn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8A14-BE9E-4842-8434-544A7381BD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DL for scientific computing requires capabilities not present in industry ID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standard IDLs: CORBA, COM, RPC,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red capabilities for a scientific computing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 for parallel seman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se dynamic multidimensional arrays and complex numb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ings for f77/f90 and “special” languages (e.g., Yoric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nd easy-to-modify IDL for research purp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 inheritance model (Java-like interfaces and class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erformance for same address-space method invo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1051-2B92-4DA9-89C4-C5503E70EA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provides language interoperability for scientific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22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a “scientific” interface defini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odified industry IDL technology for the scientific do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describes calling interfaces (e.g., CCA specifi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tools automatically generate code to “glue language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00" y="3505320"/>
            <a:ext cx="5301360" cy="2527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ESI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axpy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, in double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do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35040" y="4419720"/>
            <a:ext cx="788760" cy="70380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IDL</a:t>
            </a:r>
            <a:br>
              <a:rPr sz="2000"/>
            </a:b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800600"/>
            <a:ext cx="3812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7642080" y="3373560"/>
            <a:ext cx="1043280" cy="2826000"/>
            <a:chOff x="7642080" y="3373560"/>
            <a:chExt cx="1043280" cy="2826000"/>
          </a:xfrm>
        </p:grpSpPr>
        <p:sp>
          <p:nvSpPr>
            <p:cNvPr id="196" name=""/>
            <p:cNvSpPr/>
            <p:nvPr/>
          </p:nvSpPr>
          <p:spPr>
            <a:xfrm>
              <a:off x="7889040" y="337356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81920" y="3979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32880" y="4586400"/>
              <a:ext cx="663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42080" y="5192640"/>
              <a:ext cx="104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Pyth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68240" y="580068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68686"/>
                  </a:solidFill>
                  <a:latin typeface="Arial"/>
                </a:rPr>
                <a:t>f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0" y="4800600"/>
            <a:ext cx="91440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858000" y="3657240"/>
            <a:ext cx="990720" cy="114300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6858000" y="4267080"/>
            <a:ext cx="9907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0" y="4800600"/>
            <a:ext cx="762120" cy="5335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858000" y="480060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0920" y="5562720"/>
            <a:ext cx="27594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library writer develop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26880" y="3124080"/>
            <a:ext cx="174600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user runs this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60040" y="6248520"/>
            <a:ext cx="1688040" cy="337320"/>
          </a:xfrm>
          <a:prstGeom prst="rect">
            <a:avLst/>
          </a:prstGeom>
          <a:noFill/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ff0033"/>
                </a:solidFill>
                <a:latin typeface="Arial"/>
              </a:rPr>
              <a:t>and gets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6400440" y="3581280"/>
            <a:ext cx="228600" cy="68580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934320" y="3809880"/>
            <a:ext cx="1143000" cy="2362320"/>
          </a:xfrm>
          <a:prstGeom prst="line">
            <a:avLst/>
          </a:prstGeom>
          <a:ln w="1260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7855-0C57-4A72-922F-11126E5A6E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9040" y="304920"/>
            <a:ext cx="83440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incorporates ideas from Java and CORBA to describe scientific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04920" y="1600200"/>
            <a:ext cx="8686800" cy="4755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0.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rsion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.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ES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Hypr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ESI.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64480" y="2057400"/>
            <a:ext cx="1707840" cy="1618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um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2F60-A319-43D1-A539-4F739EEEDB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86868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rs call automatically generated interface code completely unaware of SIDL too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6280" y="1839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93600" y="2286000"/>
            <a:ext cx="45133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b,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integer smg_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b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x = hypre_vector_NewVector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A = hypre_matrix_NewMatrix(com, grid, stenci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smg_solver = hypre_smg_solver_new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etMaxIter(smg_solver, 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Solve(smg_solver, A, b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b61"/>
                </a:solidFill>
                <a:latin typeface="Arial"/>
              </a:rPr>
              <a:t>call hypre_smg_solver_Finalize(smg_solv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400" y="2286000"/>
            <a:ext cx="43185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vector b, x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matrix 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hypre::smg_solver smg_solve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b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x = hypre::vector::NewVector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A = hypre::matrix::NewMatrix(com, grid, stenci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 = hypre::smg_solver::New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etMaxIter(1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Solve(A, b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Arial"/>
              </a:rPr>
              <a:t>smg_solver.Finalize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228600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22720" y="16765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C++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11960" y="167652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b61"/>
                </a:solidFill>
                <a:uFillTx/>
                <a:latin typeface="Arial"/>
              </a:rPr>
              <a:t>Fortran 77 Test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6CA9-8F0A-4E55-A0C1-FA4623AF01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ep though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113800"/>
            <a:ext cx="6934320" cy="1008720"/>
          </a:xfrm>
          <a:prstGeom prst="rect">
            <a:avLst/>
          </a:prstGeom>
          <a:noFill/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Goal: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 Provide an overview of the approach, techniques,  and tools we are exploring in adopting software component technology for scientific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4FA-B659-4F90-AFEF-04C3F61918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DL version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71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version management scheme for SIDL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mbols are assigned a fixed version numb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yword requests specified version (or lates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multiple versions of specs (e.g., ESI 0.5, ESI 0.5.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441440" y="3429000"/>
            <a:ext cx="6490080" cy="28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ESI 0.5.1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access ESI spec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version HYPRE 0.7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// define HYPRE spec v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HYPR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define v0.7 of HYPRE.Vector using v0.5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// of the ESI.Vector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Vector extends ESI.Vecto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7C5-0E57-4A45-BB6E-286ED19F81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support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mpil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, f77, C++ mostly finished using old SIDL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500 test cases probe imple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am for exploratory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 migrating system to use new gramm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va, Python, and Yorick support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thon and Yorick are scripting languages (Yorick from LLN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 to begin development in October timef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quick” because of C interface support in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8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90 and MATLAB will (hopefully) begin early next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F2B-4E17-4308-AAF7-0F4129BC01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4200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collaborating with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explore SIDL technology in a scientific libr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borators: Andy Cleary, Jeff Painter, Cal Ribbe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nterface description file generated f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30 interfaces and classes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s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ols to generate glue code for object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SIDL use in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pport for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tran capabilities through SIDL in upcoming ver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to integrate existing C, Fortran, and C++ in one libr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is a useful language for discussing software desig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bett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based on SIDL OO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verhead in same-address space too small to meas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9BF6-7737-4213-80EF-4A589664C4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446-CD61-477F-8BCC-B289264556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7080" y="298440"/>
            <a:ext cx="88646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are developing a web-based architecture to simplify access by scientists and tool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4647960"/>
            <a:ext cx="899172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nd library developers must hav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ss to our technology; otherwise, they simply will not u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web-based deployment lowers the “threshold of pain” to adopting component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765720" y="1676520"/>
            <a:ext cx="7616160" cy="2927880"/>
            <a:chOff x="765720" y="1676520"/>
            <a:chExt cx="7616160" cy="2927880"/>
          </a:xfrm>
        </p:grpSpPr>
        <p:grpSp>
          <p:nvGrpSpPr>
            <p:cNvPr id="233" name=""/>
            <p:cNvGrpSpPr/>
            <p:nvPr/>
          </p:nvGrpSpPr>
          <p:grpSpPr>
            <a:xfrm>
              <a:off x="765720" y="1676520"/>
              <a:ext cx="1002240" cy="1023120"/>
              <a:chOff x="765720" y="1676520"/>
              <a:chExt cx="1002240" cy="102312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114560" y="1676520"/>
                <a:ext cx="304560" cy="609480"/>
                <a:chOff x="1114560" y="1676520"/>
                <a:chExt cx="304560" cy="6094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152360" y="1676520"/>
                  <a:ext cx="228240" cy="228600"/>
                </a:xfrm>
                <a:prstGeom prst="ellipse">
                  <a:avLst/>
                </a:prstGeom>
                <a:noFill/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66480" y="1905120"/>
                  <a:ext cx="0" cy="22860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14560" y="1981440"/>
                  <a:ext cx="304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>
                  <a:off x="1114560" y="2133720"/>
                  <a:ext cx="15192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266480" y="2133720"/>
                  <a:ext cx="152280" cy="1522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765720" y="2362320"/>
                <a:ext cx="1002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80"/>
                    </a:solidFill>
                    <a:latin typeface="Arial"/>
                  </a:rPr>
                  <a:t>scienti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991800" y="3156120"/>
              <a:ext cx="551160" cy="1006920"/>
              <a:chOff x="991800" y="3156120"/>
              <a:chExt cx="551160" cy="1006920"/>
            </a:xfrm>
          </p:grpSpPr>
          <p:sp>
            <p:nvSpPr>
              <p:cNvPr id="242" name=""/>
              <p:cNvSpPr/>
              <p:nvPr/>
            </p:nvSpPr>
            <p:spPr>
              <a:xfrm>
                <a:off x="1038240" y="3156120"/>
                <a:ext cx="457200" cy="6091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114560" y="3232080"/>
                <a:ext cx="75960" cy="15192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90520" y="3536640"/>
                <a:ext cx="152640" cy="75960"/>
              </a:xfrm>
              <a:prstGeom prst="rect">
                <a:avLst/>
              </a:prstGeom>
              <a:noFill/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90520" y="3384360"/>
                <a:ext cx="76320" cy="151920"/>
              </a:xfrm>
              <a:prstGeom prst="line">
                <a:avLst/>
              </a:prstGeom>
              <a:ln w="1260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991800" y="3825720"/>
                <a:ext cx="5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c6d9c"/>
                    </a:solidFill>
                    <a:latin typeface="Arial"/>
                  </a:rPr>
                  <a:t>too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752480" y="2133720"/>
              <a:ext cx="83844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1676520" y="3048120"/>
              <a:ext cx="9144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2669760" y="2590920"/>
              <a:ext cx="1239840" cy="565920"/>
              <a:chOff x="2669760" y="2590920"/>
              <a:chExt cx="1239840" cy="565920"/>
            </a:xfrm>
          </p:grpSpPr>
          <p:sp>
            <p:nvSpPr>
              <p:cNvPr id="250" name=""/>
              <p:cNvSpPr/>
              <p:nvPr/>
            </p:nvSpPr>
            <p:spPr>
              <a:xfrm>
                <a:off x="2669760" y="2819520"/>
                <a:ext cx="1239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33"/>
                    </a:solidFill>
                    <a:latin typeface="Arial"/>
                  </a:rPr>
                  <a:t>web serve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1" name="asf_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2819160" y="2590920"/>
                <a:ext cx="990720" cy="327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2" name=""/>
            <p:cNvSpPr/>
            <p:nvPr/>
          </p:nvSpPr>
          <p:spPr>
            <a:xfrm>
              <a:off x="3962520" y="2819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5105520" y="2362320"/>
              <a:ext cx="1143000" cy="838080"/>
              <a:chOff x="5105520" y="2362320"/>
              <a:chExt cx="1143000" cy="838080"/>
            </a:xfrm>
          </p:grpSpPr>
          <p:sp>
            <p:nvSpPr>
              <p:cNvPr id="254" name=""/>
              <p:cNvSpPr/>
              <p:nvPr/>
            </p:nvSpPr>
            <p:spPr>
              <a:xfrm>
                <a:off x="5105520" y="2362320"/>
                <a:ext cx="1143000" cy="838080"/>
              </a:xfrm>
              <a:prstGeom prst="flowChartMultidocument">
                <a:avLst/>
              </a:prstGeom>
              <a:noFill/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107680" y="2514600"/>
                <a:ext cx="935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IDL tool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servle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Arial"/>
                  </a:rPr>
                  <a:t>JS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6781680" y="3276720"/>
              <a:ext cx="1600200" cy="1327680"/>
              <a:chOff x="6781680" y="3276720"/>
              <a:chExt cx="1600200" cy="1327680"/>
            </a:xfrm>
          </p:grpSpPr>
          <p:sp>
            <p:nvSpPr>
              <p:cNvPr id="257" name=""/>
              <p:cNvSpPr/>
              <p:nvPr/>
            </p:nvSpPr>
            <p:spPr>
              <a:xfrm>
                <a:off x="6781680" y="4267080"/>
                <a:ext cx="160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6b61"/>
                    </a:solidFill>
                    <a:latin typeface="Arial"/>
                  </a:rPr>
                  <a:t>SQL databas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48440" y="3276720"/>
                <a:ext cx="1067040" cy="990360"/>
              </a:xfrm>
              <a:prstGeom prst="can">
                <a:avLst>
                  <a:gd name="adj" fmla="val 25000"/>
                </a:avLst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060640" y="327672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Arial"/>
                </a:rPr>
                <a:t>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2880" y="1676520"/>
              <a:ext cx="766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web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48520" y="3124080"/>
              <a:ext cx="68580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babel_dropshadow" descr=""/>
            <p:cNvPicPr/>
            <p:nvPr/>
          </p:nvPicPr>
          <p:blipFill>
            <a:blip r:embed="rId2"/>
            <a:stretch/>
          </p:blipFill>
          <p:spPr>
            <a:xfrm>
              <a:off x="6934320" y="1905120"/>
              <a:ext cx="129528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flipV="1">
              <a:off x="6324480" y="2133720"/>
              <a:ext cx="5335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3311-51CE-40B3-A1FB-866D8B8509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 a web-based repository for component software and typ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53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lexandria repository support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L type descriptions for libraries an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and componen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face to the Babel language interoperabilit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209680" y="2971800"/>
          <a:ext cx="5410440" cy="37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5410440" cy="37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443-ED59-435F-9408-A0961FD167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55680" y="298440"/>
            <a:ext cx="840744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be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arser converts SIDL to XML that is stored in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lexandri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sitory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DL is used to generate XML interface information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type description used to generate glue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25800" y="2133720"/>
            <a:ext cx="6741360" cy="1404000"/>
            <a:chOff x="1225800" y="2133720"/>
            <a:chExt cx="6741360" cy="1404000"/>
          </a:xfrm>
        </p:grpSpPr>
        <p:sp>
          <p:nvSpPr>
            <p:cNvPr id="271" name=""/>
            <p:cNvSpPr/>
            <p:nvPr/>
          </p:nvSpPr>
          <p:spPr>
            <a:xfrm>
              <a:off x="3737520" y="2360520"/>
              <a:ext cx="959400" cy="39888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par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25800" y="242244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sid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5334120" y="2133720"/>
              <a:ext cx="2633040" cy="914400"/>
              <a:chOff x="5334120" y="2133720"/>
              <a:chExt cx="2633040" cy="914400"/>
            </a:xfrm>
          </p:grpSpPr>
          <p:sp>
            <p:nvSpPr>
              <p:cNvPr id="274" name=""/>
              <p:cNvSpPr/>
              <p:nvPr/>
            </p:nvSpPr>
            <p:spPr>
              <a:xfrm>
                <a:off x="5334120" y="2133720"/>
                <a:ext cx="304920" cy="3808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34120" y="2666880"/>
                <a:ext cx="304920" cy="3812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45400" y="2408400"/>
                <a:ext cx="202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6b61"/>
                    </a:solidFill>
                    <a:latin typeface="Arial"/>
                  </a:rPr>
                  <a:t>type repositor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15000" y="2133720"/>
                <a:ext cx="152640" cy="914400"/>
              </a:xfrm>
              <a:custGeom>
                <a:avLst/>
                <a:gdLst>
                  <a:gd name="textAreaLeft" fmla="*/ 0 w 152640"/>
                  <a:gd name="textAreaRight" fmla="*/ 55080 w 15264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124440" y="2590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876920" y="2361960"/>
              <a:ext cx="3808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76920" y="2666880"/>
              <a:ext cx="3808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83200" y="3200400"/>
              <a:ext cx="1869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url://interface.xm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91120" y="2895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56000" y="48769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06920" y="434340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b61"/>
                </a:solidFill>
                <a:latin typeface="Arial"/>
              </a:rPr>
              <a:t>type 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71520" y="5257800"/>
            <a:ext cx="2020320" cy="398880"/>
          </a:xfrm>
          <a:prstGeom prst="rect">
            <a:avLst/>
          </a:prstGeom>
          <a:noFill/>
          <a:ln w="190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cod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76720" y="518148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4480" y="4876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554160" y="4572000"/>
            <a:ext cx="613440" cy="1892160"/>
            <a:chOff x="6554160" y="4572000"/>
            <a:chExt cx="613440" cy="1892160"/>
          </a:xfrm>
        </p:grpSpPr>
        <p:sp>
          <p:nvSpPr>
            <p:cNvPr id="289" name=""/>
            <p:cNvSpPr/>
            <p:nvPr/>
          </p:nvSpPr>
          <p:spPr>
            <a:xfrm>
              <a:off x="6606000" y="507996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7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54160" y="558792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88440" y="4572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6760" y="6095880"/>
              <a:ext cx="37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V="1">
            <a:off x="6095880" y="480024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6095880" y="52574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5880" y="548640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5880" y="5486400"/>
            <a:ext cx="45720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56000" y="5791320"/>
            <a:ext cx="533160" cy="60948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276720" y="556272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4480" y="57913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8280" y="6095880"/>
            <a:ext cx="16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machine</a:t>
            </a:r>
            <a:br>
              <a:rPr sz="1800"/>
            </a:b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486-AC87-4549-9AAE-27F4A0D8CB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ple XML fil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ypre.Ve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93200" y="1752480"/>
            <a:ext cx="8227440" cy="447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?xml version="1.0" encoding="UTF-8”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!DOCTYPE Symbol PUBLIC “-//CCA//SIDL Symbol DTD v1.0//EN” “SIDL.dtd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Vecto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 dat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0000816 08:47:22 PD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adataEntry ke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urce-ur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alu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le:/home/skohn/hypre.sid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adata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Comment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Interfac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Exten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IDL.Interfac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ymbolName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ypre.Obje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vers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AllParentInterfac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sBlock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Method communica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copy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definition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 name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xp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MethodsBlock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Interface&gt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ymbo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3FA-1541-49AF-AD4B-BB665F0B9AF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ation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04640" y="1601280"/>
            <a:ext cx="8739360" cy="388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DOE community activities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Language interoperability technolog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Babel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mponent type and software repository (</a:t>
            </a:r>
            <a:r>
              <a:rPr b="1" i="1" lang="en-US" sz="2400" spc="-1" strike="noStrike">
                <a:solidFill>
                  <a:srgbClr val="777777"/>
                </a:solidFill>
                <a:latin typeface="Arial"/>
              </a:rPr>
              <a:t>Alexandria</a:t>
            </a: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 in parallel component commun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3600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77777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E96E-4898-45C5-8824-57E97D09DBA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redistribution of complex data structures between compon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1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llel data redistribution for non-local conn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onnect parallel application to visualization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utomatically redistribute complex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st support redistribution of arbitrary data struc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 - modify SIDL and special interfac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666880" y="3200400"/>
            <a:ext cx="3810240" cy="2438280"/>
            <a:chOff x="2666880" y="3200400"/>
            <a:chExt cx="3810240" cy="2438280"/>
          </a:xfrm>
        </p:grpSpPr>
        <p:sp>
          <p:nvSpPr>
            <p:cNvPr id="308" name=""/>
            <p:cNvSpPr/>
            <p:nvPr/>
          </p:nvSpPr>
          <p:spPr>
            <a:xfrm>
              <a:off x="2666880" y="3200400"/>
              <a:ext cx="914400" cy="761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2819160" y="3352680"/>
              <a:ext cx="609480" cy="457200"/>
              <a:chOff x="2819160" y="3352680"/>
              <a:chExt cx="609480" cy="457200"/>
            </a:xfrm>
          </p:grpSpPr>
          <p:sp>
            <p:nvSpPr>
              <p:cNvPr id="310" name=""/>
              <p:cNvSpPr/>
              <p:nvPr/>
            </p:nvSpPr>
            <p:spPr>
              <a:xfrm flipH="1">
                <a:off x="2895480" y="3352680"/>
                <a:ext cx="22824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95480" y="3581280"/>
                <a:ext cx="15192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124080" y="3352680"/>
                <a:ext cx="15192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>
                <a:off x="3047760" y="3504960"/>
                <a:ext cx="228240" cy="1526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2971800" y="3657600"/>
                <a:ext cx="75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2819160" y="3581280"/>
                <a:ext cx="75960" cy="228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19520" y="380988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047760" y="36576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76360" y="3504960"/>
                <a:ext cx="152280" cy="763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3200400" y="3581280"/>
                <a:ext cx="22824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2666880" y="403848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2933640" y="4228920"/>
              <a:ext cx="380880" cy="381240"/>
              <a:chOff x="2933640" y="4228920"/>
              <a:chExt cx="380880" cy="381240"/>
            </a:xfrm>
          </p:grpSpPr>
          <p:sp>
            <p:nvSpPr>
              <p:cNvPr id="322" name=""/>
              <p:cNvSpPr/>
              <p:nvPr/>
            </p:nvSpPr>
            <p:spPr>
              <a:xfrm flipH="1">
                <a:off x="3161880" y="430524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85920" y="438156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33640" y="438156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2933640" y="453384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933640" y="438156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085920" y="4228920"/>
                <a:ext cx="76320" cy="1526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62240" y="4228920"/>
                <a:ext cx="15228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2666880" y="487656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2781360" y="4952520"/>
              <a:ext cx="685800" cy="609480"/>
              <a:chOff x="2781360" y="4952520"/>
              <a:chExt cx="685800" cy="609480"/>
            </a:xfrm>
          </p:grpSpPr>
          <p:sp>
            <p:nvSpPr>
              <p:cNvPr id="331" name=""/>
              <p:cNvSpPr/>
              <p:nvPr/>
            </p:nvSpPr>
            <p:spPr>
              <a:xfrm flipV="1">
                <a:off x="2781360" y="5333760"/>
                <a:ext cx="22860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009960" y="5105160"/>
                <a:ext cx="15228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3162240" y="495252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781360" y="540972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09960" y="53337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2857680" y="540936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V="1">
                <a:off x="3162240" y="5181120"/>
                <a:ext cx="152640" cy="22824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2240" y="5105160"/>
                <a:ext cx="15264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390840" y="495288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3314520" y="5105160"/>
                <a:ext cx="152280" cy="75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562720" y="445752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5676840" y="4533480"/>
              <a:ext cx="685800" cy="609840"/>
              <a:chOff x="5676840" y="4533480"/>
              <a:chExt cx="685800" cy="609840"/>
            </a:xfrm>
          </p:grpSpPr>
          <p:sp>
            <p:nvSpPr>
              <p:cNvPr id="343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6057360" y="453384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905080" y="4686120"/>
                <a:ext cx="15228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29120" y="476244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76840" y="476244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5676840" y="4914720"/>
                <a:ext cx="22860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5905440" y="4685760"/>
                <a:ext cx="15228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6057720" y="4533480"/>
                <a:ext cx="22860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76840" y="49910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05440" y="49147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5753160" y="4990680"/>
                <a:ext cx="30456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6057720" y="4762080"/>
                <a:ext cx="152640" cy="22860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57720" y="4686120"/>
                <a:ext cx="15264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286320" y="4533840"/>
                <a:ext cx="76320" cy="15228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210000" y="4686120"/>
                <a:ext cx="152280" cy="76320"/>
              </a:xfrm>
              <a:prstGeom prst="line">
                <a:avLst/>
              </a:prstGeom>
              <a:ln w="19080">
                <a:solidFill>
                  <a:srgbClr val="00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76840" y="4762440"/>
                <a:ext cx="0" cy="22860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715000" y="3695760"/>
              <a:ext cx="609480" cy="609120"/>
              <a:chOff x="5715000" y="3695760"/>
              <a:chExt cx="609480" cy="609120"/>
            </a:xfrm>
          </p:grpSpPr>
          <p:sp>
            <p:nvSpPr>
              <p:cNvPr id="361" name=""/>
              <p:cNvSpPr/>
              <p:nvPr/>
            </p:nvSpPr>
            <p:spPr>
              <a:xfrm flipH="1">
                <a:off x="5790960" y="3695760"/>
                <a:ext cx="22860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91320" y="392400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019920" y="3695760"/>
                <a:ext cx="15228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943240" y="3848040"/>
                <a:ext cx="22860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15000" y="3924000"/>
                <a:ext cx="76320" cy="22824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72200" y="3848040"/>
                <a:ext cx="152280" cy="7560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6095520" y="3924000"/>
                <a:ext cx="228600" cy="152280"/>
              </a:xfrm>
              <a:prstGeom prst="line">
                <a:avLst/>
              </a:prstGeom>
              <a:ln w="19080">
                <a:solidFill>
                  <a:srgbClr val="ff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5943240" y="4076640"/>
                <a:ext cx="152280" cy="22824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7280" y="4152600"/>
                <a:ext cx="76320" cy="15228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715000" y="4152600"/>
                <a:ext cx="152280" cy="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5867280" y="4000320"/>
                <a:ext cx="76320" cy="15192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3600" y="4000320"/>
                <a:ext cx="152280" cy="75960"/>
              </a:xfrm>
              <a:prstGeom prst="line">
                <a:avLst/>
              </a:prstGeom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6" name=""/>
            <p:cNvSpPr/>
            <p:nvPr/>
          </p:nvSpPr>
          <p:spPr>
            <a:xfrm>
              <a:off x="5562720" y="3619440"/>
              <a:ext cx="914400" cy="762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57600" y="3581280"/>
              <a:ext cx="1828800" cy="380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3657600" y="4114800"/>
              <a:ext cx="1828800" cy="30456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57600" y="4419360"/>
              <a:ext cx="1828800" cy="304920"/>
            </a:xfrm>
            <a:prstGeom prst="line">
              <a:avLst/>
            </a:prstGeom>
            <a:ln w="19080">
              <a:solidFill>
                <a:srgbClr val="0c6d9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3657600" y="4876200"/>
              <a:ext cx="1828800" cy="381240"/>
            </a:xfrm>
            <a:prstGeom prst="line">
              <a:avLst/>
            </a:prstGeom>
            <a:ln w="19080">
              <a:solidFill>
                <a:srgbClr val="00c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ACF-5B36-4718-BE0B-9E31D123BD6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ical simulation software is becoming increasingly complex and interdisciplin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6080"/>
            <a:ext cx="872496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sts are asked to develop 3d, massively parallel, high-fidelity, full-physics simulations;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nd do it quick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quires the integration of software libraries developed by other te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resources are limited and expertise may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 of local control over software development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issues (f77, C, C++, Python, Java, f9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3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for small codes do not scale to 500K li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961-F385-445A-A210-4465E9BBF8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31280" y="298440"/>
            <a:ext cx="8255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llel components will require special additions to SIDL interface descrip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64880" y="1485720"/>
            <a:ext cx="8978760" cy="201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 RMI semantics for paralle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lo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also need a </a:t>
            </a:r>
            <a:r>
              <a:rPr b="0" i="1" lang="en-US" sz="2000" spc="-1" strike="noStrike">
                <a:solidFill>
                  <a:srgbClr val="ff0066"/>
                </a:solidFill>
                <a:latin typeface="Arial"/>
              </a:rPr>
              <a:t>cop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tribute for pass-by-value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ever, no data distribution directives - must be done dynamical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763640" y="3429000"/>
            <a:ext cx="5514840" cy="222840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package ESI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erface Vecto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double dot(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copy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in Vector 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GlobalSiz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int getLocalSize() </a:t>
            </a:r>
            <a:r>
              <a:rPr b="1" lang="en-US" sz="2000" spc="-1" strike="noStrike">
                <a:solidFill>
                  <a:srgbClr val="ff0033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5226-6E34-4A8F-8885-D5957A24E7A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ynamic redistribution of arbitrary data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the object to do it for you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egular data too complex to represent in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approac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s implement one of a set of redistributi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brary queries object at run-time for supported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45880" y="3200400"/>
            <a:ext cx="7796520" cy="2284200"/>
            <a:chOff x="245880" y="3200400"/>
            <a:chExt cx="7796520" cy="2284200"/>
          </a:xfrm>
        </p:grpSpPr>
        <p:sp>
          <p:nvSpPr>
            <p:cNvPr id="387" name=""/>
            <p:cNvSpPr/>
            <p:nvPr/>
          </p:nvSpPr>
          <p:spPr>
            <a:xfrm>
              <a:off x="245880" y="3200400"/>
              <a:ext cx="5057640" cy="2284200"/>
            </a:xfrm>
            <a:prstGeom prst="rect">
              <a:avLst/>
            </a:prstGeom>
            <a:noFill/>
            <a:ln w="1908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Complex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void deserialize(in Array&lt;Stream&gt; s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interface ArrayDistributed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use existing array descri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   </a:t>
              </a: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// from PAWS or CUMULV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c6d9c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10080" y="3353040"/>
              <a:ext cx="152640" cy="68580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41200" y="3429000"/>
              <a:ext cx="24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wo streams on M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three streams on M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563440" y="4191120"/>
            <a:ext cx="3201120" cy="2532600"/>
            <a:chOff x="5563440" y="4191120"/>
            <a:chExt cx="3201120" cy="2532600"/>
          </a:xfrm>
        </p:grpSpPr>
        <p:grpSp>
          <p:nvGrpSpPr>
            <p:cNvPr id="391" name=""/>
            <p:cNvGrpSpPr/>
            <p:nvPr/>
          </p:nvGrpSpPr>
          <p:grpSpPr>
            <a:xfrm>
              <a:off x="8231040" y="4572000"/>
              <a:ext cx="532800" cy="1295280"/>
              <a:chOff x="8231040" y="4572000"/>
              <a:chExt cx="532800" cy="1295280"/>
            </a:xfrm>
          </p:grpSpPr>
          <p:sp>
            <p:nvSpPr>
              <p:cNvPr id="392" name=""/>
              <p:cNvSpPr/>
              <p:nvPr/>
            </p:nvSpPr>
            <p:spPr>
              <a:xfrm>
                <a:off x="8231040" y="5333760"/>
                <a:ext cx="532800" cy="53352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231040" y="4572000"/>
                <a:ext cx="532800" cy="533160"/>
              </a:xfrm>
              <a:prstGeom prst="rect">
                <a:avLst/>
              </a:prstGeom>
              <a:noFill/>
              <a:ln w="19080">
                <a:solidFill>
                  <a:srgbClr val="006b6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5563800" y="4191120"/>
              <a:ext cx="533160" cy="2057400"/>
              <a:chOff x="5563800" y="4191120"/>
              <a:chExt cx="533160" cy="2057400"/>
            </a:xfrm>
          </p:grpSpPr>
          <p:sp>
            <p:nvSpPr>
              <p:cNvPr id="395" name=""/>
              <p:cNvSpPr/>
              <p:nvPr/>
            </p:nvSpPr>
            <p:spPr>
              <a:xfrm>
                <a:off x="5563800" y="419112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563800" y="4953240"/>
                <a:ext cx="533160" cy="53316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563800" y="5715000"/>
                <a:ext cx="533160" cy="533520"/>
              </a:xfrm>
              <a:prstGeom prst="rect">
                <a:avLst/>
              </a:prstGeom>
              <a:noFill/>
              <a:ln w="19080">
                <a:solidFill>
                  <a:srgbClr val="0c6d9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556344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M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307360" y="4648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40480" y="4267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40480" y="5029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40480" y="57913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c6d9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307360" y="541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b61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30320" y="6324840"/>
              <a:ext cx="53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M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71840" y="4496040"/>
              <a:ext cx="1904760" cy="2286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171840" y="4876560"/>
              <a:ext cx="1904760" cy="30492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171840" y="5029200"/>
              <a:ext cx="1904760" cy="914400"/>
            </a:xfrm>
            <a:prstGeom prst="line">
              <a:avLst/>
            </a:prstGeom>
            <a:ln w="19080">
              <a:solidFill>
                <a:srgbClr val="006b6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171840" y="4496040"/>
              <a:ext cx="1904760" cy="9144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71840" y="5181840"/>
              <a:ext cx="1904760" cy="38088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6171840" y="5714640"/>
              <a:ext cx="1904760" cy="228600"/>
            </a:xfrm>
            <a:prstGeom prst="line">
              <a:avLst/>
            </a:prstGeom>
            <a:ln w="1908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026-AF51-47CA-9D56-1755D241DBB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component technology be part of the future of scientific compu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ll, maybe - or maybe n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does offer new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s to manage large-scale application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interoperability and easier plug-and-pl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technology, not re-invent the whe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dges to interoperate with industry software (e.g., SOAP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capabilities come at a pr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s scientists to using component technology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ep learning curve (needs to become part of cultu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aradigm for developing scientific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282-B2DC-47D3-BF2E-04EB2320E1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University of California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VG-140549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5C1-361D-49E1-95DD-635A077C1E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barriers to software re-use, interoperability, and integr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5010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le programming languages (f90 calling C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atibilities in C and C++ header files (poor physical desig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ing low-level run-time support (e.g., reference count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logical barr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st (“how do I know you know what you’re doing?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could re-write it in less time than it would take to learn it…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understanding barriers (the interesting one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interactions of the math and physics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software that reflects that understan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where we gain insights and make scientific progr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F23-131C-40E7-9CE3-E2CDCF4104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ies address issues of software complexity and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24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y created component technology to address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problems due to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ity of large applications with third-part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mental evolution of large legacy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3886200"/>
            <a:ext cx="6858000" cy="1008720"/>
          </a:xfrm>
          <a:prstGeom prst="rect">
            <a:avLst/>
          </a:prstGeom>
          <a:noFill/>
          <a:ln w="1908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c6d9c"/>
                </a:solidFill>
                <a:uFillTx/>
                <a:latin typeface="Arial"/>
              </a:rPr>
              <a:t>Observation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: The laboratory must address similar problems but in a different applications space (parallel high-performance scientific simulation, not busines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24E2-B9D2-4325-B1E7-D597E3AD1B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dustry solutions will not work in a scientific computing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5726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competing industry component appro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 JavaBeans and Enterprise JavaBea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G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ations for high-performance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address issues of massively parallel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y focuses on abstractions for business (not scientific) da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navailable on our parallel research platfo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support for Fortran 77 and Fortran 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32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we can leverage techniques and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5AB-11F5-4356-BA32-1DA018B015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extends OO with interoperability and comm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3185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object-oriented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language interoper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object calling interfaces independent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“glue” software to support cross-language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mmon behavior, packaging, and descri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omponents must support some common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tools (e.g., repositories, builders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4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 technolog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-oriented design, scripting, or framewor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d programming (e.g., modul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lution for all of your problems (just some of the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BF1-580F-484A-89A8-59DBAF36C3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9000" y="298440"/>
            <a:ext cx="85597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nent technology approaches help to manage application software complex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2680" y="155268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olithic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37120" y="155088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-block”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5079960" y="2227320"/>
            <a:ext cx="3752640" cy="2194920"/>
            <a:chOff x="5079960" y="2227320"/>
            <a:chExt cx="3752640" cy="2194920"/>
          </a:xfrm>
        </p:grpSpPr>
        <p:grpSp>
          <p:nvGrpSpPr>
            <p:cNvPr id="80" name=""/>
            <p:cNvGrpSpPr/>
            <p:nvPr/>
          </p:nvGrpSpPr>
          <p:grpSpPr>
            <a:xfrm>
              <a:off x="7318440" y="3512880"/>
              <a:ext cx="1514160" cy="909360"/>
              <a:chOff x="7318440" y="3512880"/>
              <a:chExt cx="1514160" cy="909360"/>
            </a:xfrm>
          </p:grpSpPr>
          <p:sp>
            <p:nvSpPr>
              <p:cNvPr id="81" name=""/>
              <p:cNvSpPr/>
              <p:nvPr/>
            </p:nvSpPr>
            <p:spPr>
              <a:xfrm>
                <a:off x="7318440" y="3512880"/>
                <a:ext cx="151416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382160" y="3607920"/>
                <a:ext cx="13831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mod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equation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6675480" y="256680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67920" y="26776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5079960" y="2227320"/>
              <a:ext cx="1270080" cy="909360"/>
              <a:chOff x="5079960" y="2227320"/>
              <a:chExt cx="1270080" cy="909360"/>
            </a:xfrm>
          </p:grpSpPr>
          <p:sp>
            <p:nvSpPr>
              <p:cNvPr id="86" name=""/>
              <p:cNvSpPr/>
              <p:nvPr/>
            </p:nvSpPr>
            <p:spPr>
              <a:xfrm>
                <a:off x="5079960" y="2227320"/>
                <a:ext cx="1270080" cy="909360"/>
              </a:xfrm>
              <a:prstGeom prst="rect">
                <a:avLst/>
              </a:prstGeom>
              <a:noFill/>
              <a:ln w="190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162760" y="2323800"/>
                <a:ext cx="11012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stepp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234120" y="2876040"/>
              <a:ext cx="490320" cy="115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19920" y="3925440"/>
              <a:ext cx="477720" cy="274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05560" y="3065040"/>
              <a:ext cx="331920" cy="577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9840" y="3455640"/>
              <a:ext cx="1079280" cy="62028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2280" y="3566880"/>
              <a:ext cx="107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11640" y="3057120"/>
              <a:ext cx="604800" cy="490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0720" y="4734000"/>
            <a:ext cx="4098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ight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ess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re-use is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well-understood by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2600" y="4734000"/>
            <a:ext cx="3292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oosely-coupled co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more flexible, exten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high re-use poten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new to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8480" y="2227320"/>
            <a:ext cx="4115520" cy="2193840"/>
            <a:chOff x="528480" y="2227320"/>
            <a:chExt cx="4115520" cy="2193840"/>
          </a:xfrm>
        </p:grpSpPr>
        <p:sp>
          <p:nvSpPr>
            <p:cNvPr id="97" name=""/>
            <p:cNvSpPr/>
            <p:nvPr/>
          </p:nvSpPr>
          <p:spPr>
            <a:xfrm>
              <a:off x="528480" y="2227320"/>
              <a:ext cx="2367000" cy="219384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2000" y="2324160"/>
              <a:ext cx="200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timestep loop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11440" y="268596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if ( test1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1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9280" y="3371760"/>
              <a:ext cx="2018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else if ( test2 )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olver2(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14160" y="39211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33640" y="2876400"/>
              <a:ext cx="1352520" cy="1314720"/>
            </a:xfrm>
            <a:prstGeom prst="cloudCallout">
              <a:avLst>
                <a:gd name="adj1" fmla="val -76759"/>
                <a:gd name="adj2" fmla="val -23310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57680" y="2743200"/>
              <a:ext cx="1752480" cy="1523880"/>
            </a:xfrm>
            <a:prstGeom prst="cloudCallout">
              <a:avLst>
                <a:gd name="adj1" fmla="val -66305"/>
                <a:gd name="adj2" fmla="val 25523"/>
              </a:avLst>
            </a:prstGeom>
            <a:solidFill>
              <a:srgbClr val="ffff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0240" y="2949480"/>
              <a:ext cx="1823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sh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“</a:t>
              </a: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hard-code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E78-1975-46BA-98B1-2E39D38FD4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6312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MRAI ALPS application combines three physics packages with local time refin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44160" y="1562040"/>
            <a:ext cx="8530920" cy="2251800"/>
            <a:chOff x="344160" y="1562040"/>
            <a:chExt cx="8530920" cy="2251800"/>
          </a:xfrm>
        </p:grpSpPr>
        <p:sp>
          <p:nvSpPr>
            <p:cNvPr id="107" name=""/>
            <p:cNvSpPr/>
            <p:nvPr/>
          </p:nvSpPr>
          <p:spPr>
            <a:xfrm>
              <a:off x="4506120" y="2957400"/>
              <a:ext cx="122760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Gradient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55840" y="2805120"/>
              <a:ext cx="1439640" cy="100872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Berger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Rigoutsos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Clust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18320" y="2957400"/>
              <a:ext cx="1256760" cy="703800"/>
            </a:xfrm>
            <a:prstGeom prst="rect">
              <a:avLst/>
            </a:prstGeom>
            <a:noFill/>
            <a:ln w="2844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Load</a:t>
              </a:r>
              <a:br>
                <a:rPr sz="2000"/>
              </a:br>
              <a:r>
                <a:rPr b="1" lang="en-US" sz="2000" spc="-1" strike="noStrike">
                  <a:solidFill>
                    <a:srgbClr val="777777"/>
                  </a:solidFill>
                  <a:latin typeface="Arial"/>
                </a:rPr>
                <a:t>Balanc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520" y="1562040"/>
              <a:ext cx="2230560" cy="703800"/>
            </a:xfrm>
            <a:prstGeom prst="rect">
              <a:avLst/>
            </a:prstGeom>
            <a:noFill/>
            <a:ln w="28440">
              <a:solidFill>
                <a:srgbClr val="4f7e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Time Refinement</a:t>
              </a:r>
              <a:br>
                <a:rPr sz="2000"/>
              </a:br>
              <a:r>
                <a:rPr b="1" lang="en-US" sz="2000" spc="-1" strike="noStrike">
                  <a:solidFill>
                    <a:srgbClr val="4f7ead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4160" y="2890800"/>
              <a:ext cx="1581120" cy="70380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Hierarchy</a:t>
              </a:r>
              <a:br>
                <a:rPr sz="2000"/>
              </a:b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29920" y="1562040"/>
              <a:ext cx="1523520" cy="703800"/>
            </a:xfrm>
            <a:prstGeom prst="rect">
              <a:avLst/>
            </a:prstGeom>
            <a:noFill/>
            <a:ln w="28440">
              <a:solidFill>
                <a:srgbClr val="0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Regridding</a:t>
              </a:r>
              <a:br>
                <a:rPr sz="2000"/>
              </a:br>
              <a:r>
                <a:rPr b="1" lang="en-US" sz="2000" spc="-1" strike="noStrike">
                  <a:solidFill>
                    <a:srgbClr val="00c0c0"/>
                  </a:solidFill>
                  <a:latin typeface="Arial"/>
                </a:rPr>
                <a:t>Algorith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0"/>
            </p:cNvCxnSpPr>
            <p:nvPr/>
          </p:nvCxnSpPr>
          <p:spPr>
            <a:xfrm flipH="1">
              <a:off x="1134000" y="2306160"/>
              <a:ext cx="1819800" cy="5706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0" idx="3"/>
              <a:endCxn id="112" idx="1"/>
            </p:cNvCxnSpPr>
            <p:nvPr/>
          </p:nvCxnSpPr>
          <p:spPr>
            <a:xfrm>
              <a:off x="4097160" y="1926720"/>
              <a:ext cx="18036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2" idx="2"/>
              <a:endCxn id="107" idx="0"/>
            </p:cNvCxnSpPr>
            <p:nvPr/>
          </p:nvCxnSpPr>
          <p:spPr>
            <a:xfrm flipH="1">
              <a:off x="5120280" y="2306160"/>
              <a:ext cx="157212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2" idx="2"/>
              <a:endCxn id="108" idx="0"/>
            </p:cNvCxnSpPr>
            <p:nvPr/>
          </p:nvCxnSpPr>
          <p:spPr>
            <a:xfrm flipH="1">
              <a:off x="6676200" y="2306160"/>
              <a:ext cx="16560" cy="48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2" idx="2"/>
              <a:endCxn id="109" idx="0"/>
            </p:cNvCxnSpPr>
            <p:nvPr/>
          </p:nvCxnSpPr>
          <p:spPr>
            <a:xfrm>
              <a:off x="6692760" y="2306160"/>
              <a:ext cx="1554480" cy="637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8" name=""/>
          <p:cNvGrpSpPr/>
          <p:nvPr/>
        </p:nvGrpSpPr>
        <p:grpSpPr>
          <a:xfrm>
            <a:off x="6772320" y="4735440"/>
            <a:ext cx="2179440" cy="1008720"/>
            <a:chOff x="6772320" y="4735440"/>
            <a:chExt cx="2179440" cy="1008720"/>
          </a:xfrm>
        </p:grpSpPr>
        <p:sp>
          <p:nvSpPr>
            <p:cNvPr id="119" name=""/>
            <p:cNvSpPr/>
            <p:nvPr/>
          </p:nvSpPr>
          <p:spPr>
            <a:xfrm>
              <a:off x="7088400" y="4735440"/>
              <a:ext cx="1863360" cy="1008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Ion Advection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Numerical</a:t>
              </a:r>
              <a:br>
                <a:rPr sz="2000"/>
              </a:br>
              <a:r>
                <a:rPr b="1" lang="en-US" sz="2000" spc="-1" strike="noStrike">
                  <a:solidFill>
                    <a:srgbClr val="0066ff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21" idx="3"/>
              <a:endCxn id="119" idx="1"/>
            </p:cNvCxnSpPr>
            <p:nvPr/>
          </p:nvCxnSpPr>
          <p:spPr>
            <a:xfrm>
              <a:off x="6772320" y="5249520"/>
              <a:ext cx="28800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2" name=""/>
          <p:cNvGrpSpPr/>
          <p:nvPr/>
        </p:nvGrpSpPr>
        <p:grpSpPr>
          <a:xfrm>
            <a:off x="326160" y="4367160"/>
            <a:ext cx="2751480" cy="1516680"/>
            <a:chOff x="326160" y="4367160"/>
            <a:chExt cx="2751480" cy="1516680"/>
          </a:xfrm>
        </p:grpSpPr>
        <p:sp>
          <p:nvSpPr>
            <p:cNvPr id="123" name=""/>
            <p:cNvSpPr/>
            <p:nvPr/>
          </p:nvSpPr>
          <p:spPr>
            <a:xfrm>
              <a:off x="326160" y="4875120"/>
              <a:ext cx="1665000" cy="1008720"/>
            </a:xfrm>
            <a:prstGeom prst="rect">
              <a:avLst/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Light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pag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outi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25" idx="2"/>
              <a:endCxn id="123" idx="0"/>
            </p:cNvCxnSpPr>
            <p:nvPr/>
          </p:nvCxnSpPr>
          <p:spPr>
            <a:xfrm flipH="1">
              <a:off x="1158120" y="4367160"/>
              <a:ext cx="1919880" cy="494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" name=""/>
          <p:cNvGrpSpPr/>
          <p:nvPr/>
        </p:nvGrpSpPr>
        <p:grpSpPr>
          <a:xfrm>
            <a:off x="2348280" y="4367160"/>
            <a:ext cx="1709280" cy="1305360"/>
            <a:chOff x="2348280" y="4367160"/>
            <a:chExt cx="1709280" cy="1305360"/>
          </a:xfrm>
        </p:grpSpPr>
        <p:sp>
          <p:nvSpPr>
            <p:cNvPr id="127" name=""/>
            <p:cNvSpPr/>
            <p:nvPr/>
          </p:nvSpPr>
          <p:spPr>
            <a:xfrm>
              <a:off x="2348280" y="4968720"/>
              <a:ext cx="1709280" cy="703800"/>
            </a:xfrm>
            <a:prstGeom prst="rect">
              <a:avLst/>
            </a:prstGeom>
            <a:noFill/>
            <a:ln w="28440">
              <a:solidFill>
                <a:srgbClr val="00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Electrostatic</a:t>
              </a:r>
              <a:br>
                <a:rPr sz="2000"/>
              </a:br>
              <a:r>
                <a:rPr b="1" lang="en-US" sz="2000" spc="-1" strike="noStrike">
                  <a:solidFill>
                    <a:srgbClr val="00c000"/>
                  </a:solidFill>
                  <a:latin typeface="Arial"/>
                </a:rPr>
                <a:t>Field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5" idx="2"/>
              <a:endCxn id="127" idx="0"/>
            </p:cNvCxnSpPr>
            <p:nvPr/>
          </p:nvCxnSpPr>
          <p:spPr>
            <a:xfrm>
              <a:off x="3077640" y="4367160"/>
              <a:ext cx="126360" cy="588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1" name=""/>
          <p:cNvSpPr/>
          <p:nvPr/>
        </p:nvSpPr>
        <p:spPr>
          <a:xfrm>
            <a:off x="4527000" y="4732200"/>
            <a:ext cx="2216880" cy="100872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onservative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Hyperbolic Level</a:t>
            </a:r>
            <a:br>
              <a:rPr sz="2000"/>
            </a:b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Integ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60360" y="2306520"/>
            <a:ext cx="3475440" cy="2411280"/>
            <a:chOff x="2160360" y="2306520"/>
            <a:chExt cx="3475440" cy="2411280"/>
          </a:xfrm>
        </p:grpSpPr>
        <p:cxnSp>
          <p:nvCxnSpPr>
            <p:cNvPr id="130" name=""/>
            <p:cNvCxnSpPr>
              <a:stCxn id="125" idx="2"/>
              <a:endCxn id="121" idx="0"/>
            </p:cNvCxnSpPr>
            <p:nvPr/>
          </p:nvCxnSpPr>
          <p:spPr>
            <a:xfrm>
              <a:off x="3077640" y="4366800"/>
              <a:ext cx="2558520" cy="3513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2160360" y="3622680"/>
              <a:ext cx="1835640" cy="703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Laser-Plasma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Integ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10" idx="2"/>
              <a:endCxn id="125" idx="0"/>
            </p:cNvCxnSpPr>
            <p:nvPr/>
          </p:nvCxnSpPr>
          <p:spPr>
            <a:xfrm>
              <a:off x="2954160" y="2306520"/>
              <a:ext cx="124560" cy="1302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07" idx="1"/>
              <a:endCxn id="125" idx="0"/>
            </p:cNvCxnSpPr>
            <p:nvPr/>
          </p:nvCxnSpPr>
          <p:spPr>
            <a:xfrm flipH="1">
              <a:off x="3078000" y="3322440"/>
              <a:ext cx="1400760" cy="2862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3108960" y="5713560"/>
            <a:ext cx="3262320" cy="845280"/>
            <a:chOff x="3108960" y="5713560"/>
            <a:chExt cx="3262320" cy="845280"/>
          </a:xfrm>
        </p:grpSpPr>
        <p:sp>
          <p:nvSpPr>
            <p:cNvPr id="134" name=""/>
            <p:cNvSpPr/>
            <p:nvPr/>
          </p:nvSpPr>
          <p:spPr>
            <a:xfrm>
              <a:off x="3108960" y="6099120"/>
              <a:ext cx="3262320" cy="459720"/>
            </a:xfrm>
            <a:prstGeom prst="rect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6600"/>
                  </a:solidFill>
                  <a:latin typeface="Arial"/>
                </a:rPr>
                <a:t>Poisson Hierarchy Sol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5" name=""/>
            <p:cNvCxnSpPr>
              <a:stCxn id="127" idx="2"/>
              <a:endCxn id="134" idx="0"/>
            </p:cNvCxnSpPr>
            <p:nvPr/>
          </p:nvCxnSpPr>
          <p:spPr>
            <a:xfrm>
              <a:off x="3203640" y="5713560"/>
              <a:ext cx="1537200" cy="419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A05-B3A6-4DE4-B087-35F7CC88F7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kohn</cp:lastModifiedBy>
  <cp:lastPrinted>2000-11-06T21:04:45Z</cp:lastPrinted>
  <dcterms:modified xsi:type="dcterms:W3CDTF">2000-11-06T21:04:53Z</dcterms:modified>
  <cp:revision>385</cp:revision>
  <dc:subject>CCA Interoperability and the CORBA IDL</dc:subject>
  <dc:title>CCA Interoperability</dc:title>
</cp:coreProperties>
</file>