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A01F11D-5DAC-4E1F-AB08-487D6ED0AC7C}"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037E56E-2A6B-4A26-B435-E3EDEDEE2FE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6AAC034-D958-49CA-AF5F-F3B3398CA00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0BF553B-693C-47F4-A322-EB840838530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59E90E4-CD80-4A29-884F-024F3A09A28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25717BF-BB8B-4555-B773-6AF026C93C3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28E278B-287C-4E9B-A5AC-FA71E847365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3FD9A52-643A-4419-B91C-94000218A5E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77914CA-40E7-4842-AF75-BEF4CFCF568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05BD1EA-A799-4108-AB00-3C3585D4A73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7D7A61F-8CBB-4BFA-8C71-B9948F1140B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1ECB06A-A93F-4473-B0B4-F1DB5A159D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0547A1A-0CB3-43D9-8A5F-AE582FF976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35BD4D2-AD2F-48FA-9509-E242DEA4FA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76E5374-0376-43CB-A2D7-30D44EB346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20C30EB-3C84-48C6-8586-9ED12B37ABA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7F9E55F-D32F-4F54-9FE4-88B0FE87D03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80798DA-41BB-4FBB-9DE8-35A0874C086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C5C2C55-452E-463E-A2DA-DB1763F6C4F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07BF376-B00F-49F5-BF16-4CFAA4B922F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7CC6606-2B87-4E90-BD3F-0589D948C9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361E03F-2D0E-49A9-87D1-1792B9D012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D0C948-DD2E-4456-A3AD-FA540D5299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1C8F21F-0E73-49A6-8BAC-4826C1F9709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63AB061-F19B-400A-8837-3C81D4B0E55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6FEE563-112F-49CF-9E47-82493EF2BD7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02979F5-9052-4C2D-B34A-0AFB336FEA6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51B8FCF-AF8C-4F4D-A054-2DF6C3D077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E4EE7C1-DD09-4E31-9FE7-1C9036DFA5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A8B69B6-1FA3-49F1-851C-7DD444793D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8845BB7-FABF-4A2F-8580-7E4C03CD34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BE38F0-8B3B-4D3A-849C-FDDB5F09E4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270C54-B55F-4C6B-AF05-452C747082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FD7702-70F6-4D71-B71E-611D053B3A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AE6C5A-610A-4BCA-91FF-C6B38896C2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5CBC9-3055-4E62-BAC0-AF1D6C520F8A}"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29093-EE3B-4B34-B241-EFF055961CD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44F0B584-9D40-4FEA-A3CE-44F2BADFE5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2864FB3-5F0C-41D6-82C1-30B01837895B}"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8C713E8-34C0-4C19-B72D-24C7812C0A15}"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8F5EECC-D7A2-42F3-86C9-66A2660ADAD0}"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1C99469-37A6-4B18-91DE-E7750236BAC4}"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0C92418-3621-42DB-8A4D-316EE4D37503}"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AE80984-56E2-49FD-9216-D4E3F4B92570}"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9917D57-BD1D-4314-8F91-E7E9CB92A049}"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AB41BD7-0FCF-4164-AA90-3070EA7A0566}"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06ABD79-6058-49C8-90A7-E7F5B718F54D}"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2B9EF60-09FE-45C0-B37E-0399511B0C89}"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5DA896D-0F84-47A8-992E-AF9F93230235}"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BDF2B90-DBA9-46C4-B26D-1DB78896AF44}"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0EBD737-B578-4358-91AD-6504FBF98AEC}"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EBF15A6-5C09-4F0A-806E-E8865EAA26AF}"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72EACF4-182B-4EC4-ABA2-5FA8B704F431}"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4E2A362-91AB-4334-B296-F8E72C2A7E98}"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C456FAE-F02A-4DAE-AC75-26F5988F1F70}"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710093B8-90ED-4764-989D-62D6A083D511}"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693B903A-90B2-4BCD-BD75-1087B1F42000}"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4EEA027-D4E7-4171-8441-3360A06B0C28}"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FDAA976-8530-4BAF-8680-A4617CD4BE94}"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62EEC82-05C0-4978-A754-5A43E5B7586D}"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AF17D31-EE25-40A7-BD4C-18151C1B889F}"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4D00F0F-1C52-464F-9529-801A0F73963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FC78982-2FCE-4B02-BA94-8BCC741B76B6}"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130B581-4131-4487-AEA9-7A70C86B3C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36FE630-3A2A-40A5-BCE9-DB512C0DA199}"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4000A056-238E-4461-979D-E5E6BDC714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A7946BC-2969-4F8A-BFF0-67365C74D9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54CD14F-EFB4-45D0-93A4-5A97DE9ED3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7F9B009-5BAB-4A02-A8F2-7741100A183A}"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9B12B18-76A2-4881-99F6-C02BA74F5C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845BF3A-273A-43AE-A7F1-7C0BA12FA4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379F7E2-8EB8-46BF-BD3B-2B813FAC9C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60A356E-7AD5-4F5E-8279-D6301DDA8192}"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75153EC-152F-4119-A824-9E2438D63B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303211C-A447-4DDB-9A0B-7FFC5DA69B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F2CBFD4-48BD-4340-9292-82D00CBE1E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40EDFBE-86D8-46E0-AF6B-68EFF7A6112C}"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9219EA1-B798-406C-9E9A-84B5133A4FB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E6F8A82-B7D7-436A-A58A-AF8259C74F3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10E79C6-8078-4014-9408-DB926F80B36F}"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98FE26A-8F4D-4CAE-B98A-EDC11F69690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26E8D6B-D71E-4C8A-8178-5D7B9CE92D6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B7F493A-AA12-4DFC-9D3B-87F80E0E7DD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4F190B1-0137-4695-BC78-7ABE7014BA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AA540E5-FF10-43EE-BAE6-E49DB389331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D17203F-E030-4558-8FF1-62AA5F902E7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B8B87C6-989E-42D3-83BC-E26BB9748AF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51C27FE-F320-4FBD-B091-255D69BCF5C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EC29A4B-2097-4EA3-A04F-83846646FDC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D127418-42A4-495A-AA0F-1BFE891357D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31669EB-7CF6-4306-9E9C-74CABE0489F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B56CEF8-32CB-46DE-A919-B78F0AF4381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4444560-BB3B-4E66-B452-C9CCF05C314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FF86DC5-09C0-4838-9756-48FF94AE44A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1BA6D3E-DB13-4B7A-ACEA-BF2C33E7CAF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8DF58EC-5245-4858-AA15-A091227531D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F91408D-790A-4892-88AC-3D521AFDECE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9FD2EF0-E6DB-4591-8E74-AA87B9679B99}"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7EB62A4-CDFE-48E2-BD8E-DE2E408765C4}"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30CBDF8-D81C-4A99-B544-5B515AD6C881}"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14B6807-8A01-4360-ADD0-0BC2ECAFF63B}"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65F312C-CDA9-4B8E-A7EC-65FAE54CC08A}"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DDC111B-DF6D-454F-9A61-B200A10BF664}"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B5B0D4F-B6E7-419E-92AC-97EDB75E4AB6}"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1B2264D-8858-4450-AE5F-169078AB3CC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06B5BB9-AD37-4930-B7B5-D90C570DE99B}"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749F4A3-3923-4100-8E46-81C0B20A0569}"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FF0ACCC-B16E-4F41-A385-88F507CA8083}"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0C0C3E4-D319-49C4-99F5-FCFE0F523B6A}"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43BC0D8-D072-4211-9DA8-A56EAECA8D8B}"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EDEAE76-5A9C-45B8-941E-82E37BB369F3}"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2C6D67F-6413-4B77-ACB8-BB522D29C4EC}"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974EB4A-637A-4BF5-AB2B-471A32AA8A90}"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C497E0A-96A2-409B-8C82-A71C62429D61}"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8C388C5-CB39-4296-8F5C-46FCD8FAAD1F}"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E953F77-3B7C-4714-B1E3-E58D9BE79A9B}"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00D1D8C-C300-4DA7-90E5-1710BBAE01A2}"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FD78FB6-A6B1-42B8-80A8-4C53090C5273}"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83ACD3C-3240-4C56-82A6-3982E33E82BA}"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CEA2EDE-6387-42DF-B176-279D6100AB66}"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7EC93CB-F5C3-4BDA-AA1C-67E04BE36111}"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DF593D4-7B5E-4DBF-B087-B937CB251F21}"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E14834A-DC75-48F4-9EB6-59C9C84A4A98}"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CA962EC-700B-4A7B-822B-E8757E5B9E68}"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B9EC3FB-E817-4F48-B564-9E51CFC617FB}"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8F62E1C-5461-4080-97A8-62833F8B061A}"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9F37091-64DF-4F71-83FD-0D386A9FD953}"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625008E-FE80-465E-A19C-A254F768D021}"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76C4951-8EDC-415D-B643-8BACCE05B198}"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E12CB0D-CB10-4414-8B66-78E1C2C1DB72}"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EBBF353-ABF2-4128-A9A4-E63FEB7D932A}"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A91A2CA-AF2A-4BB0-8F49-9889C0022CDA}"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C82291F-3E01-433C-9A99-AB6FF7189E57}"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86224EB-5A2E-4362-B536-5C889C76F74B}"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9C6A2F6C-E0B1-470A-813A-4D996EF383DA}"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2D41042-3796-4FFC-B1C3-29B1E5122AC7}"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2B5174A-4332-4452-A715-690BC428FB3A}"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AA773F3-ABF1-479D-9CDC-58A432265D18}"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1F112C9-0360-4AE7-A78F-8578FC859C2F}"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5E12C0E-968F-41EB-BBA3-9F73975315E8}"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6E239C7-05CD-4E8D-A108-2D449DF68EFA}"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67FD675-81C3-46B5-8FE5-489FD8A623C7}"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43D93B6-1A4A-4DD9-9679-F5BF2AB6B066}"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1CE1305-1806-4679-BB04-1FE9C5D37A95}"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865CF0B-E8B3-49BF-8D92-D1E061B32857}"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0B703F7-730A-4A7B-9CDC-95437A7C3157}"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AD7CA082-2F38-4B60-8355-411C2CB8407E}"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74DA66F-4972-47D7-AC0E-DF45311C535E}"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23D6105-61AB-4FEB-8D88-81210BBDE3AB}"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B588F24-3B3C-4B3B-BAC8-2AD14EC967CF}"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988DAFC-130F-471E-8509-FD7D437C352B}"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F2400B9-5AA7-461A-9613-C03B403D3EDC}"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890EE72-7D67-45E2-9BC5-474DE30CF662}"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F5439CB-5605-4BC8-984A-6BF66F218A93}"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2BECDFC-396A-4F7B-AAA9-240AFB3950AE}"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FFD6528-42BB-4EC7-B92B-9281839602D7}"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269E39D-7AB1-4933-AE25-F59574D71F4F}"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69A5F0B-C0EC-4B45-958B-12C2E7AB0256}"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